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DA62-3584-459C-A99B-D98B4B49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41D0-10AF-4241-9B3D-CA5CEFD9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64C6-EA4F-4A9D-A051-D5160E262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6EB8-4A1F-426F-B2E2-FF4D89B78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C1F8-F647-400B-B0B5-6DFFA378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2ABE-D6F9-4DE1-9EB9-97DC3EB6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3941-3476-473B-8638-FCEF78E1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35A6-30D2-45A7-AE4A-6BA86C67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74FC-1EA2-4555-B1C8-CE2D1807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26CF-46ED-4EBE-8DB7-9AB4CF59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47DD-3A52-444A-A6E4-2FAD8669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7059-99C2-4984-8C4F-760D7B65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EF27-2AF9-46E0-971B-EC1CD2A87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rsjonesroom.com/songs/vowelshort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ptember 26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5, Day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rr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sen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igora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sis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welt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447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write complete telling sent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304920"/>
            <a:ext cx="838188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lling Sent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62920" y="152280"/>
            <a:ext cx="1752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ose telling sentences.  To understand that telling sentences tell about th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tences About Th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entence names the th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entence tells about the th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ords in the sentence describe the th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al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our journal, draw a place that you like to visit.  Write three sentences about that plac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is your favorite poem or rhy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y do you lik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y favorite poem is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y favorite rhyme is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5242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09920" y="274320"/>
            <a:ext cx="1676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95680" y="2133720"/>
            <a:ext cx="38102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I Dig, Dig, Dig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onemic Awareness – Middle S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1748520"/>
            <a:ext cx="89154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</a:t>
            </a:r>
            <a:br>
              <a:rPr sz="1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is short o? Where is short o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re I am. Here I am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am in a hot pot, rocky top, and stop clock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- o - o    o - o - 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762120"/>
            <a:ext cx="123804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lections –ed, -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t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k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y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k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15200" y="0"/>
            <a:ext cx="165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recognize root word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lections –ed, 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15200" y="0"/>
            <a:ext cx="165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recognize root word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04920" y="1295280"/>
          <a:ext cx="8610480" cy="518148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767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Root Wor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Add -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Add -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95720" y="228240"/>
            <a:ext cx="1219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spelling patter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3152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time for our spelling tes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etly get your paper read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 at the example that I will put under the document camer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38088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3960" y="228240"/>
            <a:ext cx="2057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Sight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Carey Dailey</cp:lastModifiedBy>
  <dcterms:modified xsi:type="dcterms:W3CDTF">2008-11-21T04:43:22Z</dcterms:modified>
  <cp:revision>23</cp:revision>
  <dc:subject/>
  <dc:title>Slide 1</dc:title>
</cp:coreProperties>
</file>