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91C-31AA-4CFC-8B29-2BB6966D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4C7-08B0-4C9A-8A63-47C192D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8D8-D8D0-41F8-8127-F228E490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0B8-4EE8-49A1-912E-6DD6F64F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3D0-51F4-4CDF-BF2C-8BCD5AC7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777-006D-4331-BFDE-0E17324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4E9-98DF-43F8-8D75-5A349306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6E2-7A18-4878-8047-389E17B5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89D-957D-40E6-8D66-24CFB027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2F2-76FB-4052-A04C-8E278122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A36-EEF2-4A77-BB2E-73E3C3E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54C-1796-4128-97B2-EB0C48E6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E7C7-8E90-4E86-9E07-56DE1C721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8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92468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m finds a wall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It is a tall wall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315200" y="0"/>
            <a:ext cx="165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practice retelling a sto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295280"/>
          <a:ext cx="8610480" cy="5181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tales are very old stories that people have told over and over again.  Folktales come form all over the world.  At first,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each other the stories.  Later, the stories are written dow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rea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:\Documents and Settings\mworsham\Local Settings\Temporary Internet Files\Content.IE5\6FVLLJ06\MPj04327190000[1].jpg"/>
          <p:cNvPicPr/>
          <p:nvPr/>
        </p:nvPicPr>
        <p:blipFill>
          <a:blip r:embed="rId1"/>
          <a:stretch/>
        </p:blipFill>
        <p:spPr>
          <a:xfrm>
            <a:off x="5791320" y="17524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commotion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happens when a lot of people are running around making a lot of noi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3" descr="noisy.gif"/>
          <p:cNvPicPr/>
          <p:nvPr/>
        </p:nvPicPr>
        <p:blipFill>
          <a:blip r:embed="rId1"/>
          <a:stretch/>
        </p:blipFill>
        <p:spPr>
          <a:xfrm>
            <a:off x="1143000" y="2362320"/>
            <a:ext cx="68054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ughter of the townspeople caused a lo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uldn’t caus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ing pot and pans together or waving to a friend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muffle1.jpg"/>
          <p:cNvPicPr/>
          <p:nvPr/>
        </p:nvPicPr>
        <p:blipFill>
          <a:blip r:embed="rId1"/>
          <a:stretch/>
        </p:blipFill>
        <p:spPr>
          <a:xfrm>
            <a:off x="4114800" y="990720"/>
            <a:ext cx="399096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ound, you cover it up so it is not so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man was abl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 laughter by stuffing her scarf in her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ound would you try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autiful music or a noisy lawn mower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overflowing_bathroom.jpg"/>
          <p:cNvPicPr/>
          <p:nvPr/>
        </p:nvPicPr>
        <p:blipFill>
          <a:blip r:embed="rId1"/>
          <a:stretch/>
        </p:blipFill>
        <p:spPr>
          <a:xfrm>
            <a:off x="3962520" y="1600200"/>
            <a:ext cx="4572000" cy="4560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thing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pouring out of its usua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your favorite part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__________becaus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room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crowd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cause a pon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o much sun or too much rain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the boy put under the st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the story funny or s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467480" y="152280"/>
            <a:ext cx="1447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– LA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picture of a place that is special to you. If you can think of more than one place draw it in your jour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What Do You                 Do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s with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9480" y="914400"/>
            <a:ext cx="28195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360" y="228600"/>
            <a:ext cx="67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ariant Vowel /o/ a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 say a word that ends with all put your thumb up.  If the word does not have all, but your thumb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C:\Documents and Settings\mworsham\Local Settings\Temporary Internet Files\Content.IE5\K10BJNTG\MPj04331560000[1].jpg"/>
          <p:cNvPicPr/>
          <p:nvPr/>
        </p:nvPicPr>
        <p:blipFill>
          <a:blip r:embed="rId1"/>
          <a:stretch/>
        </p:blipFill>
        <p:spPr>
          <a:xfrm>
            <a:off x="3048120" y="1219320"/>
            <a:ext cx="58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uil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2438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0400" y="228600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200400" y="22860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819520" y="28954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276720" y="2895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74320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7672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4320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0040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419720" y="1219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beginning of al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f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495680" y="5791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09-28T04:41:07Z</dcterms:modified>
  <cp:revision>34</cp:revision>
  <dc:subject/>
  <dc:title>Slide 1</dc:title>
</cp:coreProperties>
</file>