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FB9-C30F-4B51-B26A-9316C6EA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2E8-7E4F-4620-856D-6176146F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2E0E-40DC-4448-9530-A5853963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1EF-3275-4AD8-83FF-8A2AD195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3EE-C08A-4FA9-AED5-CB650433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179-C5AC-47D2-AE7C-DB0D9D30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37E-C9C4-4FF5-B6F1-B5FE367B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D83-2240-46D0-A76C-21AD72C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B1E-864F-44A5-8805-82993A7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5E4-6A2D-4F4C-96AE-DE4B808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FC4-56B2-4DA4-9BC7-85CA94CA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E53-8189-45FB-880C-F7307C54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2C7A-30CE-4D36-8BF4-26C3BC4C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8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92468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m finds a wall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It is a tall wall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65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practice retelling a sto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8610480" cy="5181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 have told over and over again.  Folktales come form all over the world.  At first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each other the stories.  Later, the stories are written dow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rea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:\Documents and Settings\mworsham\Local Settings\Temporary Internet Files\Content.IE5\6FVLLJ06\MPj04327190000[1].jpg"/>
          <p:cNvPicPr/>
          <p:nvPr/>
        </p:nvPicPr>
        <p:blipFill>
          <a:blip r:embed="rId1"/>
          <a:stretch/>
        </p:blipFill>
        <p:spPr>
          <a:xfrm>
            <a:off x="57913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ommotion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happens when a lot of people are running around making a lot of noi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3" descr="noisy.gif"/>
          <p:cNvPicPr/>
          <p:nvPr/>
        </p:nvPicPr>
        <p:blipFill>
          <a:blip r:embed="rId1"/>
          <a:stretch/>
        </p:blipFill>
        <p:spPr>
          <a:xfrm>
            <a:off x="1143000" y="2362320"/>
            <a:ext cx="68054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ughter of the townspeople caused a lo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uldn’t caus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ing pot and pans together or waving to a friend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muffle1.jpg"/>
          <p:cNvPicPr/>
          <p:nvPr/>
        </p:nvPicPr>
        <p:blipFill>
          <a:blip r:embed="rId1"/>
          <a:stretch/>
        </p:blipFill>
        <p:spPr>
          <a:xfrm>
            <a:off x="4114800" y="990720"/>
            <a:ext cx="399096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ound, you cover it up so it is not so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man was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laughter by stuffing her scarf in her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ound would you try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autiful music or a noisy lawn mower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overflowing_bathroom.jpg"/>
          <p:cNvPicPr/>
          <p:nvPr/>
        </p:nvPicPr>
        <p:blipFill>
          <a:blip r:embed="rId1"/>
          <a:stretch/>
        </p:blipFill>
        <p:spPr>
          <a:xfrm>
            <a:off x="3962520" y="1600200"/>
            <a:ext cx="4572000" cy="456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pouring out of its usua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art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room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crowd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cause a pon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o much sun or too much rain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the boy put under the st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the story funny or s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467480" y="152280"/>
            <a:ext cx="1447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– LA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picture of a place that is special to you. If you can think of more than one place draw it in your jour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Do You                 Do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s with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480" y="914400"/>
            <a:ext cx="28195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360" y="228600"/>
            <a:ext cx="67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ariant Vowel /o/ a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 say a word that ends with all put your thumb up.  If the word does not have all, but your thumb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mworsham\Local Settings\Temporary Internet Files\Content.IE5\K10BJNTG\MPj04331560000[1].jpg"/>
          <p:cNvPicPr/>
          <p:nvPr/>
        </p:nvPicPr>
        <p:blipFill>
          <a:blip r:embed="rId1"/>
          <a:stretch/>
        </p:blipFill>
        <p:spPr>
          <a:xfrm>
            <a:off x="3048120" y="121932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2438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0400" y="228600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00400" y="22860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819520" y="28954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76720" y="2895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74320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7672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432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004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19720" y="1219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beginning of al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09-28T04:41:07Z</dcterms:modified>
  <cp:revision>34</cp:revision>
  <dc:subject/>
  <dc:title>Slide 1</dc:title>
</cp:coreProperties>
</file>