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B71-0D9E-4D82-9F1E-053DB636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152-B7FA-41CD-AB3B-19C084F3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3FE-CD5C-470E-9F30-B1F6C042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592-03B6-40E9-83D0-9F06DA9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8CE-65BA-4CD4-9529-CFC34B4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884-FF6E-4DF9-B35F-F72A138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C27-26C3-4DC0-85A2-8DDF2293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C37-103F-43EE-B78D-5E0EC58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805-F299-469F-B291-CE170C5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1F4-A906-4763-A001-35F474B8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7B0-F0B8-43E5-94C5-13B84FD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BFF-7460-4727-BA26-5FDDEBD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5CC9-3E9A-4807-A2C2-8CB63B7B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3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67040" y="1066680"/>
            <a:ext cx="352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characteristics of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791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telling after small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djust reading rate as a strategy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word knowledge to the reading of a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 shook his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 he held up his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one did not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you waiting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lives 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yard has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generate complete, coherent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some ways people say “hello”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y “hello” by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6212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it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l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logs o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. 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397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are these things alik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33Z</dcterms:modified>
  <cp:revision>32</cp:revision>
  <dc:subject/>
  <dc:title>Slide 1</dc:title>
</cp:coreProperties>
</file>