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246E-8631-4355-96A2-D6691815E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5882-C109-41B2-A0F0-0D34C7CB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6230-B427-432E-A0F5-568640DA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D8B4-2AE2-480F-846E-1B105DC1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2B27-DA0B-469E-97C6-B6F0D6B5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C29F-7B8D-424C-9A46-0FE69996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9BDD-38B3-48C2-9FC1-8D43DA58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4043-AD61-440D-8311-D698E844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BCF3-EB33-4D28-B2DA-644D0C2E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01E6-B53E-4A87-907B-76FE8410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D97E-32A7-4DDB-AD6B-3B79C2FD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FE80-FD9A-4783-A748-B9432BD6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D62E-F899-45AF-A6C7-A5773E159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ontent.thinkcentral.com/content/hsp/reading/storytown/na/gr1/se_9780153597732_/grade1/shell.html?grade=1" TargetMode="Externa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ontent.thinkcentral.com/content/hsp/reading/storytown/na/gr1/se_9780153597732_/grade1/shell.html?grade=1" TargetMode="Externa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ptember 30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6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High-Frequency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67040" y="1066680"/>
            <a:ext cx="3529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F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1600200"/>
          <a:ext cx="8229600" cy="4038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s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p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characteristics of nonfi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579132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retelling after small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0120" y="0"/>
            <a:ext cx="1523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adjust reading rate as a strategy for comprehe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apply word knowledge to the reading of a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ff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flo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447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os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3818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t shook his 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ally he held up his 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tone did not resp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re you waiting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3808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295280" y="-360"/>
            <a:ext cx="6858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riting Ques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do ___________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lives ____________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_____________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do _____________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7848720" y="0"/>
            <a:ext cx="1295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, say and writ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yard has tre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67480" y="152280"/>
            <a:ext cx="1676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generate complete, coherent sentences about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Sentences About a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67480" y="152280"/>
            <a:ext cx="1676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a list of criteria for effective sentences about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ling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467480" y="152280"/>
            <a:ext cx="1676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at telling sentences can tell about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are some ways people say “hello” to each 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say “hello” by 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09920" y="274320"/>
            <a:ext cx="1676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95680" y="2133720"/>
            <a:ext cx="38102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All the People on our Stree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43440" y="0"/>
            <a:ext cx="1600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and isolate the initial sound in a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oneme Isolation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ddle S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5242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23000" y="0"/>
            <a:ext cx="152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build and read words with the spelling pattern  –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762120"/>
            <a:ext cx="80773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ing Spelling Wor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di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hit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a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an will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all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e logs on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o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ill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a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3000" y="0"/>
            <a:ext cx="152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the spelling sound –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-22860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honics Skill</a:t>
            </a:r>
            <a:br>
              <a:rPr sz="5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g. 1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539720"/>
            <a:ext cx="548640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y/Categor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ow are these things alike?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48720" y="0"/>
            <a:ext cx="129528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ategorize words, actions, and object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Carey Dailey</cp:lastModifiedBy>
  <dcterms:modified xsi:type="dcterms:W3CDTF">2008-11-21T04:45:33Z</dcterms:modified>
  <cp:revision>32</cp:revision>
  <dc:subject/>
  <dc:title>Slide 1</dc:title>
</cp:coreProperties>
</file>