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FEE-9509-4B19-8B26-A8BB0129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38D-5663-4B6C-9A21-D05221E8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70C-9E3D-4510-AD9F-8CF6DC3F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4F4-4E81-4D35-AB62-F4D7973D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689-0A14-4E90-AF23-0C300769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083-D0E8-4AA0-B692-6640F6DE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046-E2F6-4D51-A81A-F079A6A7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AA5-3991-4E3B-8254-C8C9F9A0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971E-D5AD-4E83-9A6D-73030232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35A-D55F-4B77-8372-055AC03E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FE5-4270-41A8-A324-CF89DD53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B91-FCB3-4DE7-86F0-B050FE82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F76D-3AA0-4857-B872-50421B32A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0"/>
            <a:ext cx="1295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ategorize words, actions, and object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nics Ski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204920"/>
            <a:ext cx="54864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o is a person you would like to m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ould lik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et _________ becaus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is a big t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n has lots of l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ll the People on our Stree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solation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3000" y="0"/>
            <a:ext cx="152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read words with the spelling pattern 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0"/>
            <a:ext cx="80773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153280" y="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676520"/>
            <a:ext cx="3657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44197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called go to your seat.  Write the spelling words three times each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0"/>
            <a:ext cx="441936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1T04:45:48Z</dcterms:modified>
  <cp:revision>32</cp:revision>
  <dc:subject/>
  <dc:title>Slide 1</dc:title>
</cp:coreProperties>
</file>