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108-6EFF-41F5-B465-55CB552B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3B4B-5E68-4DF7-843F-116129F4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CC54-0201-42C9-A0F9-582789BE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FBD-E627-4452-8E96-37BC59F9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1AC-6B22-4941-8F48-3EF312A9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95F-6DFB-49E8-8759-4D375589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CA1-904E-4C49-BB65-F5ADAA00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6176-E1C7-42E4-95A1-2A628F0E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DC59-E6FB-4A17-8A7B-8EED8ABD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4BC6-0174-4C49-8951-60E2FF90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D54-778F-4B6E-9687-A6D26D8A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744-6C7D-4F93-B0F7-07E802B0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0D3B-1466-4006-8BCE-AA850E585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1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6, Day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/Catego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0"/>
            <a:ext cx="1295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ategorize words, actions, and object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onics Ski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204920"/>
            <a:ext cx="54864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o is a person you would like to m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ould lik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et _________ because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3808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 is a big t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n has lots of l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All the People on our Stree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isolate the initial sound in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neme Isolation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 S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3000" y="0"/>
            <a:ext cx="152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read words with the spelling pattern 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0"/>
            <a:ext cx="80773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153280" y="0"/>
            <a:ext cx="9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e spelling sound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676520"/>
            <a:ext cx="3657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0120" y="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e spelling sound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441972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called go to your seat.  Write the spelling words three times each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e spelling sound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0"/>
            <a:ext cx="441936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1T04:45:48Z</dcterms:modified>
  <cp:revision>32</cp:revision>
  <dc:subject/>
  <dc:title>Slide 1</dc:title>
</cp:coreProperties>
</file>