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9869-C700-45DB-B3DF-066B41F75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3964-A975-4CCB-A054-3AA0F7A49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FB66-D919-4951-93B2-54F12B465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814F-9656-478D-93E0-44E2F6571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8B99-E086-4843-9D58-44861B3F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865E-6A80-4188-9513-611E0BFF2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BBF-A8E3-4637-BC4B-18893675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6CD-3986-4579-B499-93091B5F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DA1-2C9A-428E-A56D-6D1C14A9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D6D-B0C7-4BC0-83AF-6541536E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E3F-1228-415B-B372-C26206FB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BA5-6772-4108-8A75-7DD93E90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1A6-BF4F-4F57-B71F-3CA0D6B7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867E-C1DB-4A46-B80E-F59F5599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8F8-421C-4137-B441-7FB7A061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087-4CC2-45F7-A9C7-37955E48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464-4A28-4EE0-A4B1-98777CF3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B0F-E205-4EAD-BCB5-10DBD7BC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013D-CF5A-447D-8096-0A26ED6D8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did not call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d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all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43000" y="3429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23623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4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5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s no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en 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s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een 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371600" y="34290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s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s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28600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9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0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57200" y="10666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 no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ed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looked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219320" y="34290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752480" y="4800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33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5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838080" y="2743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066680" y="20574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66680" y="1447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83808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838080" y="41148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838080" y="4724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62120" y="54100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724280" y="1600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724280" y="2286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724280" y="3429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4724280" y="41911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29200" y="167652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ntent Placeholder 2"/>
          <p:cNvSpPr/>
          <p:nvPr/>
        </p:nvSpPr>
        <p:spPr>
          <a:xfrm>
            <a:off x="380880" y="1600200"/>
            <a:ext cx="320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loc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try t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c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mething, you try to find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ntent Placeholder 3" descr="look for.jpg"/>
          <p:cNvPicPr/>
          <p:nvPr/>
        </p:nvPicPr>
        <p:blipFill>
          <a:blip r:embed="rId1"/>
          <a:stretch/>
        </p:blipFill>
        <p:spPr>
          <a:xfrm>
            <a:off x="1676520" y="23623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lo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places you would like to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locat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a globe.  Why would you like to find out where these places a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oc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mething in the classroom that is round.  Give directions that tell how classmates ca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oc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search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for something, you look for it.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3" descr="search1.jpg"/>
          <p:cNvPicPr/>
          <p:nvPr/>
        </p:nvPicPr>
        <p:blipFill>
          <a:blip r:embed="rId1"/>
          <a:stretch/>
        </p:blipFill>
        <p:spPr>
          <a:xfrm>
            <a:off x="1752480" y="2057400"/>
            <a:ext cx="5613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about things that make you happy.  What are some things you enj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n my signal, turn and talk with your partner using the following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enjoy 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arc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 hidden treasure.  Where are you and what are you look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store would you visi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your favorite g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use a computer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symbol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You can use a mark or a picture called a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to stand for a word or an objec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3" descr="Math_Symbol_Clipart.jpg"/>
          <p:cNvPicPr/>
          <p:nvPr/>
        </p:nvPicPr>
        <p:blipFill>
          <a:blip r:embed="rId1"/>
          <a:stretch/>
        </p:blipFill>
        <p:spPr>
          <a:xfrm>
            <a:off x="1828800" y="2133720"/>
            <a:ext cx="544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see at school.  What does it stand fo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up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at  stands for you.  Describe what it would look like and explain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d Sam throw the b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m threw the 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057400" y="380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858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it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C:\Documents and Settings\mworsham\Local Settings\Temporary Internet Files\Content.IE5\K10BJNTG\MPj04327000000[1].jpg"/>
          <p:cNvPicPr/>
          <p:nvPr/>
        </p:nvPicPr>
        <p:blipFill>
          <a:blip r:embed="rId1"/>
          <a:stretch/>
        </p:blipFill>
        <p:spPr>
          <a:xfrm>
            <a:off x="533520" y="838080"/>
            <a:ext cx="2997000" cy="224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mworsham\Local Settings\Temporary Internet Files\Content.IE5\6FVLLJ06\MCBS01882_0000[1].wmf"/>
          <p:cNvPicPr/>
          <p:nvPr/>
        </p:nvPicPr>
        <p:blipFill>
          <a:blip r:embed="rId2"/>
          <a:stretch/>
        </p:blipFill>
        <p:spPr>
          <a:xfrm>
            <a:off x="6019920" y="914400"/>
            <a:ext cx="2438280" cy="2435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mworsham\Local Settings\Temporary Internet Files\Content.IE5\K10BJNTG\MPj04309600000[1].jpg"/>
          <p:cNvPicPr/>
          <p:nvPr/>
        </p:nvPicPr>
        <p:blipFill>
          <a:blip r:embed="rId3"/>
          <a:stretch/>
        </p:blipFill>
        <p:spPr>
          <a:xfrm>
            <a:off x="2743200" y="3214800"/>
            <a:ext cx="3898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entences About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a list of criteria for effective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s I Was Going Alo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Documents and Settings\mworsham\Local Settings\Temporary Internet Files\Content.IE5\6FVLLJ06\MCj01542200000[1].wmf"/>
          <p:cNvPicPr/>
          <p:nvPr/>
        </p:nvPicPr>
        <p:blipFill>
          <a:blip r:embed="rId1"/>
          <a:stretch/>
        </p:blipFill>
        <p:spPr>
          <a:xfrm>
            <a:off x="457200" y="1066680"/>
            <a:ext cx="4272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view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6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‘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de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 no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c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my c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600200" y="34290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8195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15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16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838080" y="10666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 not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n’t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1143000" y="34290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21337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0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13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09-10-01T02:12:22Z</dcterms:modified>
  <cp:revision>48</cp:revision>
  <dc:subject/>
  <dc:title>Slide 1</dc:title>
</cp:coreProperties>
</file>