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9F4C-D7E0-4820-B002-E9BF5F8B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22B6-0930-4BD8-8DD3-1013E7F0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1976-48E7-4691-A79D-A8B502D56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B692-DF33-489A-86C8-F15E9126E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1C08-2366-4DA8-AC90-02E9ED6C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8059-1B4E-4584-83E6-4ED7BC95D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225-B5AA-4971-94B3-A97D78DF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48D-6026-4EB8-A106-C38A6C0A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EC6-B120-4887-8847-3AE60DBF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1536-5FCD-46F1-9142-C012691F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53F-D84E-4C75-9F8F-0E5212FD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7BD-3E5E-4DCB-A7B6-F31D0C6D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5B8-36EB-4D0B-9037-23EBD9F7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F3A-D346-48EF-9C98-E83B70F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DD0-E557-48B2-96F3-EAFC11A0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14F-5B89-41F1-A02A-798D771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64A-0643-475A-861B-DD713FFD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550-8E52-4DB9-ABFF-8BF2271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ACDF-4A04-466B-A678-157D9E191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did not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d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342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23623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5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7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en 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een 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371600" y="3429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28600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30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1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57200" y="10666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ed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looked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19320" y="3429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752480" y="4800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34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62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66680" y="20574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66680" y="1447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83808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838080" y="4114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838080" y="4724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62120" y="5410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724280" y="1600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724280" y="2286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72428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724280" y="4191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29200" y="167652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380880" y="160020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loc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try t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mething, you try to fin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3" descr="look for.jpg"/>
          <p:cNvPicPr/>
          <p:nvPr/>
        </p:nvPicPr>
        <p:blipFill>
          <a:blip r:embed="rId1"/>
          <a:stretch/>
        </p:blipFill>
        <p:spPr>
          <a:xfrm>
            <a:off x="1676520" y="23623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lo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places you would like to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locat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a globe.  Why would you like to find out where these places 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oc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mething in the classroom that is round.  Give directions that tell how classmates ca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oc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search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for something, you look for it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3" descr="search1.jpg"/>
          <p:cNvPicPr/>
          <p:nvPr/>
        </p:nvPicPr>
        <p:blipFill>
          <a:blip r:embed="rId1"/>
          <a:stretch/>
        </p:blipFill>
        <p:spPr>
          <a:xfrm>
            <a:off x="1752480" y="2057400"/>
            <a:ext cx="5613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things that make you happy.  What are some things you enj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using the following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enjoy 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r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hidden treasure.  Where are you and what are you look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store would you visi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your favorite g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use a computer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symbol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You can use a mark or a picture called a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to stand for a word or an objec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Math_Symbol_Clipart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4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see at school.  What does it stand fo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at  stands for you.  Describe what it would look like and explain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d Sam throw the 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m threw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05740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C:\Documents and Settings\mworsham\Local Settings\Temporary Internet Files\Content.IE5\K10BJNTG\MPj04327000000[1].jpg"/>
          <p:cNvPicPr/>
          <p:nvPr/>
        </p:nvPicPr>
        <p:blipFill>
          <a:blip r:embed="rId1"/>
          <a:stretch/>
        </p:blipFill>
        <p:spPr>
          <a:xfrm>
            <a:off x="533520" y="838080"/>
            <a:ext cx="2997000" cy="224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mworsham\Local Settings\Temporary Internet Files\Content.IE5\6FVLLJ06\MCBS01882_0000[1].wmf"/>
          <p:cNvPicPr/>
          <p:nvPr/>
        </p:nvPicPr>
        <p:blipFill>
          <a:blip r:embed="rId2"/>
          <a:stretch/>
        </p:blipFill>
        <p:spPr>
          <a:xfrm>
            <a:off x="6019920" y="914400"/>
            <a:ext cx="2438280" cy="2435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mworsham\Local Settings\Temporary Internet Files\Content.IE5\K10BJNTG\MPj04309600000[1].jpg"/>
          <p:cNvPicPr/>
          <p:nvPr/>
        </p:nvPicPr>
        <p:blipFill>
          <a:blip r:embed="rId3"/>
          <a:stretch/>
        </p:blipFill>
        <p:spPr>
          <a:xfrm>
            <a:off x="2743200" y="3214800"/>
            <a:ext cx="3898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s I Was Going Alo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Documents and Settings\mworsham\Local Settings\Temporary Internet Files\Content.IE5\6FVLLJ06\MCj01542200000[1].wmf"/>
          <p:cNvPicPr/>
          <p:nvPr/>
        </p:nvPicPr>
        <p:blipFill>
          <a:blip r:embed="rId1"/>
          <a:stretch/>
        </p:blipFill>
        <p:spPr>
          <a:xfrm>
            <a:off x="457200" y="1066680"/>
            <a:ext cx="4272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‘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d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my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600200" y="34290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8195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17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838080" y="10666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 no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n’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143000" y="3429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21337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1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09-10-01T02:12:22Z</dcterms:modified>
  <cp:revision>48</cp:revision>
  <dc:subject/>
  <dc:title>Slide 1</dc:title>
</cp:coreProperties>
</file>