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AE7A-F813-4D84-9284-4F2E4016B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947C-E51B-4EC6-98E7-8F6EAAEAF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C666-152F-40F1-B5A3-0F37E12F8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D38C-6395-43C4-9D7B-F03942108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1598-3887-4006-BD8E-63252D6FF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C1C7-4134-4343-86BD-7B6D53092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9EB5-6509-4B60-82A2-84049EA18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7D2-CCF5-4AA0-87D2-5D625246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82D-6686-4DFE-84ED-F44FECF5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AB1-AE98-4FC3-B6AC-07857DFE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80E-6554-43A7-824A-5CE92687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118-C876-4B91-A0E0-E3A5E474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C59-ED92-435D-B546-3A0A14EB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806-7FC5-43E9-B1A4-E395A837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EAD-1BAB-4C2A-B31E-FF8CCDA7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E91-6EDD-488A-961E-29BFD044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CC2-5963-488A-91C6-6975FFF2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5FE-A433-4A1E-93E4-125373B1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2E2-60C8-4306-B8F0-C8F795AE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CFE0-41D7-4A74-A624-7EC810CEB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did not call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d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all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143000" y="3429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23623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8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9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838080" y="10666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 not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n’t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143000" y="34290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21337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32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5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42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838080" y="10666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n no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143000" y="34290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274320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9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‘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838080" y="2743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066680" y="20574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066680" y="1447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83808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838080" y="41148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838080" y="4724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762120" y="54100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4724280" y="1600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4724280" y="2286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24280" y="3429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24280" y="41911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29200" y="167652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380880" y="1600200"/>
            <a:ext cx="320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4352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rial of the Ston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on the Ma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o You Do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9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29040" y="59896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magine a desk that is 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overflowing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with all kinds of papers.  How would you go about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 locating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ne particular spell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Imagine that you want to take a nap.  You hear many birds causing a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commotion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outside.  What are some ways you could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muffle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the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commo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magine you want to cross a busy street.  You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search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for a traffic light.  When you find the traffic light, what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symbol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tells you that it is safe to cross the stre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d Sam throw the b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m threw the 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57400" y="380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tend you are visiting the town in “All on the Map.”   What would you do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n my signal, turn and talk with your partner using the following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ould _______ because 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858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it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C:\Documents and Settings\mworsham\Local Settings\Temporary Internet Files\Content.IE5\K10BJNTG\MPj04327000000[1].jpg"/>
          <p:cNvPicPr/>
          <p:nvPr/>
        </p:nvPicPr>
        <p:blipFill>
          <a:blip r:embed="rId1"/>
          <a:stretch/>
        </p:blipFill>
        <p:spPr>
          <a:xfrm>
            <a:off x="533520" y="838080"/>
            <a:ext cx="2997000" cy="224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Documents and Settings\mworsham\Local Settings\Temporary Internet Files\Content.IE5\6FVLLJ06\MCBS01882_0000[1].wmf"/>
          <p:cNvPicPr/>
          <p:nvPr/>
        </p:nvPicPr>
        <p:blipFill>
          <a:blip r:embed="rId2"/>
          <a:stretch/>
        </p:blipFill>
        <p:spPr>
          <a:xfrm>
            <a:off x="6019920" y="914400"/>
            <a:ext cx="2438280" cy="2435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mworsham\Local Settings\Temporary Internet Files\Content.IE5\K10BJNTG\MPj04309600000[1].jpg"/>
          <p:cNvPicPr/>
          <p:nvPr/>
        </p:nvPicPr>
        <p:blipFill>
          <a:blip r:embed="rId3"/>
          <a:stretch/>
        </p:blipFill>
        <p:spPr>
          <a:xfrm>
            <a:off x="2743200" y="3214800"/>
            <a:ext cx="3898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entences About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a list of criteria for effective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s I Was Going Alo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Documents and Settings\mworsham\Local Settings\Temporary Internet Files\Content.IE5\6FVLLJ06\MCj01542200000[1].wmf"/>
          <p:cNvPicPr/>
          <p:nvPr/>
        </p:nvPicPr>
        <p:blipFill>
          <a:blip r:embed="rId1"/>
          <a:stretch/>
        </p:blipFill>
        <p:spPr>
          <a:xfrm>
            <a:off x="457200" y="1066680"/>
            <a:ext cx="4272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view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de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s 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s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371600" y="34290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s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s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28600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145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15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 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371600" y="34290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0481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4191120" y="4724280"/>
            <a:ext cx="3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19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0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57200" y="10666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 n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219320" y="34290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52480" y="4800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37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5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09-10-01T02:33:01Z</dcterms:modified>
  <cp:revision>50</cp:revision>
  <dc:subject/>
  <dc:title>Slide 1</dc:title>
</cp:coreProperties>
</file>