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C62-BF67-4754-8272-B6BB2892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DDE0-366A-4177-8DD4-80386561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36AC-8CCE-48B1-BE87-519C37CC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6ABC-15BD-49A7-ADEA-9F12D6E6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5A2F-3433-4891-B298-73FB5ADBA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7B5C-5671-42D9-851E-BFED5693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0B80-4FCD-44D4-9871-70BC35B7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1F4-8C33-4680-B242-2F4B8295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0FD-B8AA-4583-A80F-83DF7ABD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97D-0F99-49BB-9B54-C53DFAE9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02-EB74-4668-BE3F-F44F4117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777-E0C7-44B7-A15F-3B97664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485-BE9F-4CD7-9795-3E5FE54A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76F-A534-4490-BEF9-01B9D5F5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BEF-B5BF-4597-BD2E-FA5B7925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6C5-F853-45BD-9C41-8D11F68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D3C-B60B-4828-8AC6-793FC51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95F-A0BB-4257-B27D-19D1BAFA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F8A-7C08-4F07-B99C-11CC624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2D9-2425-4F66-BFF5-61E9B60E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9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04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3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27432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9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352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rial of the Sto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n the M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 You Do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9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29040" y="59896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magine a desk that is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overflowing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with all kinds of papers.  How would you go about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 locating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ne particular spell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Imagine that you want to take a nap.  You hear many birds causing a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outside.  What are some ways you could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muffl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magine you want to cross a busy street.  You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earch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for a traffic light.  When you find the traffic light, what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ymbol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ells you that it is safe to cross the str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tend you are visiting the town in “All on the Map.”   What would you d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_______ because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5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481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191120" y="4724280"/>
            <a:ext cx="3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9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4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5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33:01Z</dcterms:modified>
  <cp:revision>50</cp:revision>
  <dc:subject/>
  <dc:title>Slide 1</dc:title>
</cp:coreProperties>
</file>