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DF5-1FCB-4879-B428-69B50053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205-C00D-4257-B94E-689B413B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3DA-D850-4DB8-899B-99C1E7E8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704-217E-48ED-8947-EAF8433B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0C3-D759-440D-ABF2-CC7581FC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874-6D80-4B15-9C6D-A4C7835B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A76-8749-4AD1-AB0D-D39157B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419-DC75-4B68-BFCD-887A934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3E2-C9C7-4ECB-ABBA-8F0BE334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24D-D0D8-4873-B635-37EAD99F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B8C-FACE-4F71-8B37-572415A4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4A8-B9CC-4A00-8762-83FABAC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BFD0-0081-4C6B-8F48-7B8B05074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3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066680"/>
            <a:ext cx="655308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590920"/>
            <a:ext cx="65530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14800"/>
            <a:ext cx="655344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638680"/>
            <a:ext cx="655344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28600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3341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37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895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5867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467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Little Red He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I!” barked the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I!” squeaked the m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loud chorus they all said, “I will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lp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en red hen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9000" y="0"/>
            <a:ext cx="57819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your favorite animal.  What is it?    Why do you like that animal be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___________ becaus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ntences Abou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have words such 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About a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3000" y="0"/>
            <a:ext cx="152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short sound of 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71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ort Vowel /e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       begins with /e/ hold up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the 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has /e/ in the middle hol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up the 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ends with /e/ hold up the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3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e/ 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7:49Z</dcterms:modified>
  <cp:revision>42</cp:revision>
  <dc:subject/>
  <dc:title>Slide 1</dc:title>
</cp:coreProperties>
</file>