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607-8B33-43C9-B70B-B5DEEE69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BAC-5EAC-481D-8080-0D564322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BAE-F6EB-40EE-90FB-DB394C82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2AB-024D-477A-AAE2-15583E40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603-8500-4346-B0E2-37DB03F8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E0B7-DCAE-453D-97A3-AED90827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040-13AB-4BC8-88F3-72AB6188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D6F-FBB9-494B-9B6B-054AEA0E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F2A-631B-4D46-8145-FF2F0363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71C-CACE-4F95-8EE6-B955DBF1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F5E-4C86-4CC7-90D1-D69C2110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E79-F572-4EE6-AB66-0D2C19C9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7CED-63E0-4AA8-B025-05EBFF630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3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7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066680"/>
            <a:ext cx="655308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590920"/>
            <a:ext cx="65530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114800"/>
            <a:ext cx="655344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638680"/>
            <a:ext cx="655344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286000"/>
            <a:ext cx="0" cy="304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3809880"/>
            <a:ext cx="0" cy="304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53341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1371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2895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19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5867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4678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Little Red Hen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I!” barked the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I!” squeaked the m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 loud chorus they all said, “I will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lp 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ten red hen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9000" y="0"/>
            <a:ext cx="57819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8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of your favorite animal.  What is it?    Why do you like that animal be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like ___________ becaus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ntences Abou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tell about things I have d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have words such a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sentence begins with a capital letter and ends with an end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About a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 about a special event with family or friends.  Ask  your partners question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Counting on the Wood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3000" y="0"/>
            <a:ext cx="152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short sound of e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71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ort Vowel /e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I say a word th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       begins with /e/ hold up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the sign languag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I say a word th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has /e/ in the middle hol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up the sign languag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I say a word th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ends with /e/ hold up the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gn languag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3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e/ 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e/e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114300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3:57:49Z</dcterms:modified>
  <cp:revision>42</cp:revision>
  <dc:subject/>
  <dc:title>Slide 1</dc:title>
</cp:coreProperties>
</file>