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8CB90-4793-4EEC-8198-E1AD4F97A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2E57D-7D3C-472E-88BA-AC879DB63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5A4F8-9365-4883-B4F0-B5C8C4790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F900A-4974-4CCF-8638-994BDCC2F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6FF36-74E1-4E4A-A025-6F7D8AE56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1C39E-AF48-4E30-93F0-B037C3CFC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7A336-04DA-4145-815B-13E75A171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C4869-0977-4995-B209-CB29EDE2E0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2405E-85E6-41C1-ACD5-D4D6AD6DB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57B48-1850-4C10-82E8-99AEC4380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7E387-E36F-4049-B115-28D2C8A5D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48A56-94F5-4ED7-AE8E-62DF81E4E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64475-C7F2-46BE-9B86-56512270C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1E750-7FE4-4C7E-8E95-326A1C3EC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A631D-E871-4F31-8B2C-3625C8330F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B7D78-4A20-4CF7-A513-5DEFFFC03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DD6C0-ED80-4A8E-83EC-6B45885D0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7A77D-033C-4959-8E9A-43A2E8555D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5E052-3387-4687-8957-F91D7C200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CF0D3-4AFF-4DDD-93C8-2CE8771A5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CEFA5-EE32-4C73-A1D5-DD4AA93AB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046AA-2836-4DC4-9EE7-500B7913F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2BA8-8867-4ED8-8D95-6A760E247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C374-33BA-4D2E-BBCB-A66530FD8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85BA-CAB6-4BF3-807E-71E484914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0737-BAF4-422C-884C-D2F57549A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35E5-145A-4067-A745-EC23E2496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0AB9-603A-4336-8BE0-8F4835D91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A6F7-A36E-446C-B4C7-2E88C3F14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D7DB-C6C9-4087-98C9-5344CB880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AD65-9CBD-4D67-BBD9-997FCB9F0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BE27-0047-4E4F-B118-34BE59C00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4ABA-63AF-44BE-A9E7-63AAFBE7B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3F93-6466-43AD-8A2E-97B5C58B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E67CC-9549-4602-A29E-E53284272E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content.thinkcentral.com/content/hsp/reading/storytown/na/gr1/se_9780153597732_/grade1/shell.html?grade=1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MPj04394500000[1]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ues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ctober 14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7, Day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70c0"/>
                </a:solidFill>
                <a:uFillTx/>
                <a:latin typeface="Arial"/>
              </a:rPr>
              <a:t>Phonics Skil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7620120" y="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practice  decoding of words containing /e/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dog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9520" y="1752480"/>
            <a:ext cx="39621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omic Sans MS"/>
              </a:rPr>
              <a:t>Compare and Contrast </a:t>
            </a:r>
            <a:br>
              <a:rPr sz="4400"/>
            </a:br>
            <a:r>
              <a:rPr b="0" lang="en-US" sz="2800" spc="-1" strike="noStrike" u="sng">
                <a:solidFill>
                  <a:srgbClr val="6b6bcf"/>
                </a:solidFill>
                <a:uFillTx/>
                <a:latin typeface="Comic Sans MS"/>
              </a:rPr>
              <a:t>the characters in “The Little Red He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1000"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Comic Sans MS"/>
              </a:rPr>
              <a:t>How the Anim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Comic Sans MS"/>
              </a:rPr>
              <a:t>Are Ali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1000"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How the Anim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re Diffe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8"/>
          <p:cNvSpPr/>
          <p:nvPr/>
        </p:nvSpPr>
        <p:spPr>
          <a:xfrm>
            <a:off x="7772400" y="0"/>
            <a:ext cx="1371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:  To improve comprehension using a compare/contrast t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s to K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a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r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"/>
          <p:cNvSpPr/>
          <p:nvPr/>
        </p:nvSpPr>
        <p:spPr>
          <a:xfrm>
            <a:off x="6858000" y="0"/>
            <a:ext cx="228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:  To read high-frequency wo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2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alog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is a hot day,” said H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t’s eat,” said C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rst add some of this,” said Fo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w it is time to add this,” said Pi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 was fast!” said H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Comic Sans MS"/>
              </a:rPr>
              <a:t>Writers add dialogue to show what characters say to each 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3"/>
          <p:cNvSpPr/>
          <p:nvPr/>
        </p:nvSpPr>
        <p:spPr>
          <a:xfrm>
            <a:off x="6477120" y="0"/>
            <a:ext cx="2666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:  To understand how writers use dialogue to show which character is spea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Little Red Hen Gets Hel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What Little Red Hen 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What the Charact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Say and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9360">
            <a:solidFill>
              <a:srgbClr val="990033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C:\Users\Janice\AppData\Local\Microsoft\Windows\Temporary Internet Files\Content.IE5\CVW5V2AD\MCj03493310000[1].wmf"/>
          <p:cNvPicPr/>
          <p:nvPr/>
        </p:nvPicPr>
        <p:blipFill>
          <a:blip r:embed="rId1"/>
          <a:stretch/>
        </p:blipFill>
        <p:spPr>
          <a:xfrm>
            <a:off x="533520" y="228600"/>
            <a:ext cx="1825560" cy="1509840"/>
          </a:xfrm>
          <a:prstGeom prst="rect">
            <a:avLst/>
          </a:prstGeom>
          <a:ln w="0">
            <a:noFill/>
          </a:ln>
        </p:spPr>
      </p:pic>
      <p:pic>
        <p:nvPicPr>
          <p:cNvPr id="105" name="MSj03884440000[1].wav" descr=""/>
          <p:cNvPicPr/>
          <p:nvPr/>
        </p:nvPicPr>
        <p:blipFill>
          <a:blip r:embed="rId2"/>
          <a:stretch/>
        </p:blipFill>
        <p:spPr>
          <a:xfrm>
            <a:off x="2514600" y="12193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6" name="TextBox 10"/>
          <p:cNvSpPr/>
          <p:nvPr/>
        </p:nvSpPr>
        <p:spPr>
          <a:xfrm>
            <a:off x="457200" y="2209680"/>
            <a:ext cx="4114800" cy="393444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1"/>
          <p:cNvSpPr/>
          <p:nvPr/>
        </p:nvSpPr>
        <p:spPr>
          <a:xfrm>
            <a:off x="5334120" y="0"/>
            <a:ext cx="380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:  To learn to ask questions to improve comprehen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24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7" dur="13283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called go to your first rot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4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9" dur="2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4" dur="2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9" dur="2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914040" y="-360"/>
            <a:ext cx="746748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ittle Red Hen Gets Help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Text Box 4" descr=""/>
          <p:cNvPicPr/>
          <p:nvPr/>
        </p:nvPicPr>
        <p:blipFill>
          <a:blip r:embed="rId1"/>
          <a:stretch/>
        </p:blipFill>
        <p:spPr>
          <a:xfrm>
            <a:off x="1517760" y="-30240"/>
            <a:ext cx="6340320" cy="1584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MPj04394930000[1]"/>
          <p:cNvPicPr/>
          <p:nvPr/>
        </p:nvPicPr>
        <p:blipFill>
          <a:blip r:embed="rId2"/>
          <a:stretch/>
        </p:blipFill>
        <p:spPr>
          <a:xfrm>
            <a:off x="1447920" y="2787480"/>
            <a:ext cx="6095880" cy="40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v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467480" y="228240"/>
            <a:ext cx="1447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exclam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t is so big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t is just my ca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ook at that ____!  It is so ______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2133720" y="304920"/>
            <a:ext cx="44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entences About Ev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sentence tell about things I have don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y have words such as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my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me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and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we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ach sentence begins with a capital letter and ends with an end mar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6553080" y="15228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that telling sentences can tell about events in one’s lif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What things do you like to ea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I like to eat _____ because  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Comic Sans MS"/>
              </a:rPr>
              <a:t>Sentence About an Ev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6bcf"/>
                </a:solidFill>
                <a:latin typeface="Comic Sans MS"/>
              </a:rPr>
              <a:t>What is the best or most fun thing that happened to you this wee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What did you do on your favorite vac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mic Sans MS"/>
              </a:rPr>
              <a:t>Turn and talk about one of these with your partner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6553080" y="15228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that telling sentences can tell about events in one’s lif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omic Sans MS"/>
              </a:rPr>
              <a:t>Write a Sentence About </a:t>
            </a:r>
            <a:br>
              <a:rPr sz="4400"/>
            </a:br>
            <a:r>
              <a:rPr b="0" lang="en-US" sz="4400" spc="-1" strike="noStrike">
                <a:solidFill>
                  <a:srgbClr val="c00000"/>
                </a:solidFill>
                <a:latin typeface="Comic Sans MS"/>
              </a:rPr>
              <a:t>Your Ev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omic Sans MS"/>
              </a:rPr>
              <a:t>Draw a picture of the event you told your partner ab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omic Sans MS"/>
              </a:rPr>
              <a:t>Write a sentence about your pic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00800" y="0"/>
            <a:ext cx="2743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Comic Sans MS"/>
              </a:rPr>
              <a:t>Objective: To understand that telling sentences can tell about events in one’s lif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5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238880" y="-360"/>
            <a:ext cx="19051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the ability to listen for a purpo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MPj04394050000[1]"/>
          <p:cNvPicPr/>
          <p:nvPr/>
        </p:nvPicPr>
        <p:blipFill>
          <a:blip r:embed="rId1"/>
          <a:stretch/>
        </p:blipFill>
        <p:spPr>
          <a:xfrm>
            <a:off x="744480" y="1600200"/>
            <a:ext cx="3462480" cy="45259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9"/>
          <p:cNvSpPr/>
          <p:nvPr/>
        </p:nvSpPr>
        <p:spPr>
          <a:xfrm>
            <a:off x="4495680" y="2133720"/>
            <a:ext cx="381024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ead Aloud –             “What Am I Baking?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h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a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oo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no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20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238880" y="0"/>
            <a:ext cx="19051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lend phonemes into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456840"/>
            <a:ext cx="838188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 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 Blend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MCj02331180000[1]"/>
          <p:cNvPicPr/>
          <p:nvPr/>
        </p:nvPicPr>
        <p:blipFill>
          <a:blip r:embed="rId1"/>
          <a:stretch/>
        </p:blipFill>
        <p:spPr>
          <a:xfrm>
            <a:off x="2286000" y="3124080"/>
            <a:ext cx="448776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6"/>
          <p:cNvSpPr/>
          <p:nvPr/>
        </p:nvSpPr>
        <p:spPr>
          <a:xfrm>
            <a:off x="7623000" y="0"/>
            <a:ext cx="1521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lend phonemes into words.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228600" y="228600"/>
            <a:ext cx="8458200" cy="17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et’s Clap I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Content Placeholder 10" descr="clapping.jpg"/>
          <p:cNvPicPr/>
          <p:nvPr/>
        </p:nvPicPr>
        <p:blipFill>
          <a:blip r:embed="rId1"/>
          <a:stretch/>
        </p:blipFill>
        <p:spPr>
          <a:xfrm>
            <a:off x="685800" y="1219320"/>
            <a:ext cx="2733840" cy="1780920"/>
          </a:xfrm>
          <a:prstGeom prst="rect">
            <a:avLst/>
          </a:prstGeom>
          <a:ln w="0">
            <a:noFill/>
          </a:ln>
        </p:spPr>
      </p:pic>
      <p:sp>
        <p:nvSpPr>
          <p:cNvPr id="64" name="TextBox 11"/>
          <p:cNvSpPr/>
          <p:nvPr/>
        </p:nvSpPr>
        <p:spPr>
          <a:xfrm>
            <a:off x="685800" y="3352680"/>
            <a:ext cx="784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en to me say a word.  Then you say the word after me as you clap for each sound in the word.  Then slap your knees as you say the blended word.  Let’s try on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eacher’s turn:  “pe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Your tur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lap each sound as you say “p”  “e”  “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Your tur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lap your knees as you blend those sounds into the word “pe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38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7760" y="1218960"/>
            <a:ext cx="9903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7315200" y="0"/>
            <a:ext cx="1828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/e/ e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733920" y="121932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4267080" y="1219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4343400" y="24382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37339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0"/>
          <p:cNvSpPr/>
          <p:nvPr/>
        </p:nvSpPr>
        <p:spPr>
          <a:xfrm>
            <a:off x="30481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1"/>
          <p:cNvSpPr/>
          <p:nvPr/>
        </p:nvSpPr>
        <p:spPr>
          <a:xfrm>
            <a:off x="4267080" y="36576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2"/>
          <p:cNvSpPr/>
          <p:nvPr/>
        </p:nvSpPr>
        <p:spPr>
          <a:xfrm>
            <a:off x="3657600" y="36576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3"/>
          <p:cNvSpPr/>
          <p:nvPr/>
        </p:nvSpPr>
        <p:spPr>
          <a:xfrm>
            <a:off x="3048120" y="365760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4"/>
          <p:cNvSpPr/>
          <p:nvPr/>
        </p:nvSpPr>
        <p:spPr>
          <a:xfrm>
            <a:off x="4343400" y="49528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5"/>
          <p:cNvSpPr/>
          <p:nvPr/>
        </p:nvSpPr>
        <p:spPr>
          <a:xfrm>
            <a:off x="3657600" y="49528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6"/>
          <p:cNvSpPr/>
          <p:nvPr/>
        </p:nvSpPr>
        <p:spPr>
          <a:xfrm>
            <a:off x="2971800" y="49528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uilding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0"/>
          <p:cNvSpPr/>
          <p:nvPr/>
        </p:nvSpPr>
        <p:spPr>
          <a:xfrm>
            <a:off x="7315200" y="0"/>
            <a:ext cx="1828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se /e/e and other known letter-sounds to spell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1"/>
          <p:cNvSpPr/>
          <p:nvPr/>
        </p:nvSpPr>
        <p:spPr>
          <a:xfrm>
            <a:off x="1905120" y="1143000"/>
            <a:ext cx="5257800" cy="51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e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e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l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pelling Wor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Set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all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the bags on the be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Let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t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ten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kids i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Tell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him to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call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his mom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sent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the best gift to him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m will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get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the bal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7467480" y="0"/>
            <a:ext cx="1676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ad our spelling words in context with high-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2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 </cp:lastModifiedBy>
  <dcterms:modified xsi:type="dcterms:W3CDTF">2009-01-14T03:36:38Z</dcterms:modified>
  <cp:revision>73</cp:revision>
  <dc:subject/>
  <dc:title>Slide 1</dc:title>
</cp:coreProperties>
</file>