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DA2A-38DF-48A5-B2CD-F326E2A45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7655-6FD5-4C34-96F9-74F1B341F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8107-927C-4A4C-9961-1E2D2AE61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DD79-6EE2-485C-B99D-541F83D79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5A3C-95A6-4F46-804F-80D733B5A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7D39-0B99-4207-9863-A2569D7B0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91A7-3C7A-4003-89E0-F642F5D47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FC89-920C-4B5F-A381-C0B642329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2EE1-FE57-46E4-ABC0-FD12818F8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0A83-4887-4A47-980E-C285C4539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931F-1F2D-4384-96A5-40F5F2B48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45CB-CE6C-44A5-A941-47A84FC5D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16B8-060B-4ED8-B9BC-1BEE5A7B1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EB77-B63F-46CC-991F-4A1DB5934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6D82-326B-4BF8-93FB-E7FAD82CB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FB7F-2BBA-496F-8C85-9FD3420A4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9741-391B-4263-95C8-9E28B361D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FE9D-8E07-40EB-8D17-BD80F8C4B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8390-C9ED-40DA-A23E-A4627637E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1A5E-977E-46C6-B12A-61889F9EA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14F9-0548-4FA0-8E3A-D36F647E9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A457-9231-42D4-BF75-688472573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E49B-217F-484E-8D23-450A03AB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DFF-06CB-4A48-B68A-32BA22C3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A5EB-D919-4571-B4A9-E1DCDC00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329-5951-4440-9F4D-CAC6237E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F9C7-E28E-488D-ABB7-E609B513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B8D-1C67-4C71-B912-FBAA423A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9A1-2EDF-4EA1-A546-6BEC8DF7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63DB-3E93-47CB-810C-F04BB4AF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E6E0-CF38-47A5-ADDE-FAA21D52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A6D-A645-45C1-8194-2D4BBEDC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3388-AE5E-4732-B439-174B1861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C5E-FB6C-4B0F-A580-4F7A6E9D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57BD-1E61-4D0B-802E-227D1739F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14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7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70c0"/>
                </a:solidFill>
                <a:uFillTx/>
                <a:latin typeface="Arial"/>
              </a:rPr>
              <a:t>Phonics Ski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practice  decoding of words containing /e/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do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752480"/>
            <a:ext cx="3962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omic Sans MS"/>
              </a:rPr>
              <a:t>Compare and Contrast </a:t>
            </a:r>
            <a:br>
              <a:rPr sz="4400"/>
            </a:br>
            <a:r>
              <a:rPr b="0" lang="en-US" sz="2800" spc="-1" strike="noStrike" u="sng">
                <a:solidFill>
                  <a:srgbClr val="6b6bcf"/>
                </a:solidFill>
                <a:uFillTx/>
                <a:latin typeface="Comic Sans MS"/>
              </a:rPr>
              <a:t>the characters in “The Little Red H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Comic Sans MS"/>
              </a:rPr>
              <a:t>How the Anim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Comic Sans MS"/>
              </a:rPr>
              <a:t>Are A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w the Anim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7772400" y="0"/>
            <a:ext cx="1371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improve comprehension using a compare/contrast 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6858000" y="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read high-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 hot day,” said 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eat,” said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st add some of this,” said F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it is time to add this,” said P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fast!” said 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Writers add dialogue to show what characters say to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6477120" y="0"/>
            <a:ext cx="26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understand how writers use dialogue to show which character is spea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ttle Red Hen Gets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What Little Red Hen 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What the Charac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Say and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Janice\AppData\Local\Microsoft\Windows\Temporary Internet Files\Content.IE5\CVW5V2AD\MCj03493310000[1].wmf"/>
          <p:cNvPicPr/>
          <p:nvPr/>
        </p:nvPicPr>
        <p:blipFill>
          <a:blip r:embed="rId1"/>
          <a:stretch/>
        </p:blipFill>
        <p:spPr>
          <a:xfrm>
            <a:off x="533520" y="228600"/>
            <a:ext cx="1825560" cy="1509840"/>
          </a:xfrm>
          <a:prstGeom prst="rect">
            <a:avLst/>
          </a:prstGeom>
          <a:ln w="0">
            <a:noFill/>
          </a:ln>
        </p:spPr>
      </p:pic>
      <p:pic>
        <p:nvPicPr>
          <p:cNvPr id="105" name="MSj03884440000[1].wav" descr=""/>
          <p:cNvPicPr/>
          <p:nvPr/>
        </p:nvPicPr>
        <p:blipFill>
          <a:blip r:embed="rId2"/>
          <a:stretch/>
        </p:blipFill>
        <p:spPr>
          <a:xfrm>
            <a:off x="2514600" y="1219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457200" y="2209680"/>
            <a:ext cx="4114800" cy="3934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5334120" y="0"/>
            <a:ext cx="380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learn to ask questions to improve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328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-360"/>
            <a:ext cx="7467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ittle Red Hen Gets Help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ext Box 4" descr=""/>
          <p:cNvPicPr/>
          <p:nvPr/>
        </p:nvPicPr>
        <p:blipFill>
          <a:blip r:embed="rId1"/>
          <a:stretch/>
        </p:blipFill>
        <p:spPr>
          <a:xfrm>
            <a:off x="1517760" y="-30240"/>
            <a:ext cx="634032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MPj04394930000[1]"/>
          <p:cNvPicPr/>
          <p:nvPr/>
        </p:nvPicPr>
        <p:blipFill>
          <a:blip r:embed="rId2"/>
          <a:stretch/>
        </p:blipFill>
        <p:spPr>
          <a:xfrm>
            <a:off x="1447920" y="2787480"/>
            <a:ext cx="609588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so bi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just my c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ok at that ____!  It is so ______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133720" y="3049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ntences Abou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entence tell about things I have do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y have words such a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ach sentence begins with a capital letter and ends with an end ma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at things do you like to ea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 like to eat _____ because 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Sentence About an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omic Sans MS"/>
              </a:rPr>
              <a:t>What is the best or most fun thing that happened to you this we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at did you do on your favorite va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Turn and talk about one of these with your partn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omic Sans MS"/>
              </a:rPr>
              <a:t>Write a Sentence About </a:t>
            </a:r>
            <a:br>
              <a:rPr sz="4400"/>
            </a:br>
            <a:r>
              <a:rPr b="0" lang="en-US" sz="4400" spc="-1" strike="noStrike">
                <a:solidFill>
                  <a:srgbClr val="c00000"/>
                </a:solidFill>
                <a:latin typeface="Comic Sans MS"/>
              </a:rPr>
              <a:t>Your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Draw a picture of the event you told your partner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Write a sentence about your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00800" y="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Objective: To understand that telling sentences can tell about events in one’s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ad Aloud –             “What Am I Baking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o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Cj02331180000[1]"/>
          <p:cNvPicPr/>
          <p:nvPr/>
        </p:nvPicPr>
        <p:blipFill>
          <a:blip r:embed="rId1"/>
          <a:stretch/>
        </p:blipFill>
        <p:spPr>
          <a:xfrm>
            <a:off x="2286000" y="3124080"/>
            <a:ext cx="44877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23000" y="0"/>
            <a:ext cx="152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2860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t’s Clap I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10" descr="clapping.jpg"/>
          <p:cNvPicPr/>
          <p:nvPr/>
        </p:nvPicPr>
        <p:blipFill>
          <a:blip r:embed="rId1"/>
          <a:stretch/>
        </p:blipFill>
        <p:spPr>
          <a:xfrm>
            <a:off x="685800" y="1219320"/>
            <a:ext cx="2733840" cy="1780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1"/>
          <p:cNvSpPr/>
          <p:nvPr/>
        </p:nvSpPr>
        <p:spPr>
          <a:xfrm>
            <a:off x="685800" y="335268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 to me say a word.  Then you say the word after me as you clap for each sound in the word.  Then slap your knees as you say the blended word.  Let’s try 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acher’s turn:  “pe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Your tu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lap each sound as you say “p”  “e”  “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Your tu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lap your knees as you blend those sounds into the word “pe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1218960"/>
            <a:ext cx="990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e/ 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2670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3434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2670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36576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0481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43434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0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e/e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1"/>
          <p:cNvSpPr/>
          <p:nvPr/>
        </p:nvSpPr>
        <p:spPr>
          <a:xfrm>
            <a:off x="1905120" y="1143000"/>
            <a:ext cx="52578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e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bags on the b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e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kids 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el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him t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al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his mo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en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best gift to h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m will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ge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b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7467480" y="0"/>
            <a:ext cx="167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our spelling words in context with high-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1-14T03:36:38Z</dcterms:modified>
  <cp:revision>73</cp:revision>
  <dc:subject/>
  <dc:title>Slide 1</dc:title>
</cp:coreProperties>
</file>