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F5A-CCBC-4EA5-BDAD-EEE8DBC8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998-9DDF-4DBF-B5B8-8CD2B064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A61-6C48-4051-9D6E-FF933B39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066-C0AF-4DCF-A21C-BD9CAD23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384-2D81-4681-9547-A77761FD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E44-43A2-4FAF-AC83-3829E76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EC2-BB67-483F-B394-32062078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5F3-6032-4082-A999-E276D57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6F55-5CD9-46DA-812A-B76290F6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CF8-E354-44A5-A28C-8AEF4C6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06B-2A25-4C40-8C26-F551D31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6C4-368F-4E9C-8A2B-2B50DF4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67E1-624E-4594-902A-57DB8678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hyperlink" Target="http://content.thinkcentral.com/content/hsp/reading/storytown/na/gr1/se_9780153597732_/grade1/shell.html?grade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5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- Look for thing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st- Look for things that are differ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 Little Red Hen characters in “The Little Red Hen” and “Little Red Hen Gets Help” the s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y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compare and contr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Make Tortill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assemble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- If you assemble something, you put all of its pieces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consume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- If you consume something, you completely use it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enthusiastic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- If you are enthusiastic about something, you really like it and are excited about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reat do you like to eat for your birthday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to eat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3000" y="0"/>
            <a:ext cx="152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57913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Transparency R13- Short vowel /e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. 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.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7.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.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9. 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0.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and high 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791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: Write spelling words with best handwri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______ our _______for P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______to ______our sn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______grade, “ she 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905120"/>
            <a:ext cx="525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295280"/>
            <a:ext cx="6705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day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said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a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tim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6: “Yes!” said Ca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I will!” said Fox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Let me, too!” said P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0: One day, Little Red 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t up. She was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ith fluency and expres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8-10-15T03:41:22Z</dcterms:modified>
  <cp:revision>44</cp:revision>
  <dc:subject/>
  <dc:title>Slide 1</dc:title>
</cp:coreProperties>
</file>