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B35-0FEC-4A0E-B87D-8DB47125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F37-55B9-48C7-BE40-BEC4CFDC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789-2162-401B-9B53-7424822E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5C5-84BD-401B-927C-08CCA964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0FC-18BC-454A-B51D-86AC12FA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E55-3C9A-4F1E-A71F-79CAB900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642-84BF-4FEB-890F-A5489E80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EA6-31BB-4FE3-905D-0C641B29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322-9A52-4184-B336-85DFAEDE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B91-68DC-4314-BF04-DA31FC06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314-A67D-4FF0-A449-9B3BC0ED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EEB-8990-4A7A-8247-51F601C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C1C2-764D-4F97-8D20-58343D14F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hyperlink" Target="http://content.thinkcentral.com/content/hsp/reading/storytown/na/gr1/se_9780153597732_/grade1/shell.html?grade=1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15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7, Day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- Look for things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ast- Look for things that are differe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How are the Little Red Hen characters in “The Little Red Hen” and “Little Red Hen Gets Help” the sa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How are they differ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how to compare and contr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Make Tortill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ntent.thinkcentral.com/content/hsp/reading/storytown/na/gr1/se_9780153597732_/grade1/shell.html?grade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ntent.thinkcentral.com/content/hsp/reading/storytown/na/gr1/se_9780153597732_/grade1/shell.html?grade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bust 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assemble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- If you assemble something, you put all of its pieces toge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consume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- If you consume something, you completely use it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enthusiastic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- If you are enthusiastic about something, you really like it and are excited about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! What is that behi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! What is that cre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! Something is coming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t comes! It is so bi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mind. It is just my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That dog is so big. My cat is so small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s Abou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gether- “Little Red Hen Gets Hel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- Remember exciting events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lamation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letters and end 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ersonal words, such as I, my, me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urn and Talk about a special event with family or friends.  Ask  your partners question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Question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reat do you like to eat for your birthday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ike to eat______ because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What Am I Baking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874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o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3049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362320" y="914400"/>
            <a:ext cx="4419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 Wa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487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3000" y="0"/>
            <a:ext cx="1521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e/e and other known letter-sounds to spell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480" y="579132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Transparency R13- Short vowel /e/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1219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219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1219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733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3733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3733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419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419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4419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lling Wo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66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. t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5. 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6.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2438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7.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8.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9. 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0.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our spelling words and high 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486400"/>
            <a:ext cx="80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7913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: Write spelling words with best handwri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______ our _______for P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______to ______our sn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in ______grade, “ she 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0"/>
            <a:ext cx="304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1905120"/>
            <a:ext cx="5257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1295280"/>
            <a:ext cx="6705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day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 said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eat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 time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5257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tle Red Hen Gets Help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36: “Yes!” said Ca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“I will!” said Fox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“Let me, too!” said Pi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30: One day, Little Red 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t up. She was hung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ith fluency and express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8-10-15T03:41:22Z</dcterms:modified>
  <cp:revision>44</cp:revision>
  <dc:subject/>
  <dc:title>Slide 1</dc:title>
</cp:coreProperties>
</file>