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119-DE6B-40B2-94D4-4EB71C6B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1F5-DFC5-419D-BB2A-CF9BF97F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A97-561F-445E-BC7B-8DDC4293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450-9DBC-4004-BCEE-CD79E441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FD5-6236-4F3B-8B62-4F2FB707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1C8-BA09-41DC-B2D7-BB3D581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4E-0C6E-445C-A55B-25D302A3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A09-C8C7-4826-A064-5C0D019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C66-7481-4EF5-B9F7-0A2AF41F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2AA-0560-4DAE-AAE2-5A2DBD28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1D8-C853-4974-B72D-D1AE73F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3C6-644B-4F01-BF3C-595E53AA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19F-D000-4CBE-A0DE-402831EE7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487692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ur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ctober 16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sson 7 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00400" y="2286000"/>
            <a:ext cx="27432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l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495288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4876920"/>
            <a:ext cx="304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4952880"/>
            <a:ext cx="685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629400" y="4114800"/>
            <a:ext cx="762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10666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li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3733920"/>
            <a:ext cx="761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95480" y="3809880"/>
            <a:ext cx="30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3400" y="3809880"/>
            <a:ext cx="304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15000" y="3505320"/>
            <a:ext cx="8380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762120"/>
            <a:ext cx="838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et’s see if you can help me sound out some of the next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905120" y="2057400"/>
            <a:ext cx="50292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1143000"/>
            <a:ext cx="3429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28800" y="91440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3720" y="106668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362320" y="2362320"/>
            <a:ext cx="480060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52480" y="1905120"/>
            <a:ext cx="563904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251460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u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1752480"/>
            <a:ext cx="8686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14600" y="1828800"/>
            <a:ext cx="4343400" cy="19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las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57400" y="1905120"/>
            <a:ext cx="548640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90920" y="2209680"/>
            <a:ext cx="403848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2860560"/>
            <a:ext cx="19051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p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86200" y="2819520"/>
            <a:ext cx="190512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77120" y="2819520"/>
            <a:ext cx="22096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d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762120"/>
            <a:ext cx="8305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cognize initial blends with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ad words with initial blends with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914400"/>
            <a:ext cx="7467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Let’s add an l to these words to make a new bl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295280" y="685800"/>
            <a:ext cx="67820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p = cl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n = pl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nd = bl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23880" y="457200"/>
            <a:ext cx="62485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838080"/>
            <a:ext cx="624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ff"/>
                </a:solidFill>
                <a:latin typeface="Arial"/>
              </a:rPr>
              <a:t>Let’s see what the words become when we add an l to make a new bl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23880" y="609480"/>
            <a:ext cx="670572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 = bl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y = p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t = fl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nk = bl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04920"/>
            <a:ext cx="81532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pla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p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ll went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bla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at is called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i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 clap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gl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y have a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en and Jill want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p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i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762120"/>
            <a:ext cx="79246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What’s a special thing you like to do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 special thing I like to do is ______ because __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1447920"/>
            <a:ext cx="7620120" cy="23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33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 To read and write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304920"/>
            <a:ext cx="71625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10666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38680" y="12952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id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54100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im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2895480"/>
            <a:ext cx="312408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rst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562720" y="5410080"/>
            <a:ext cx="3276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38680" y="2895480"/>
            <a:ext cx="320040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t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572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200400"/>
            <a:ext cx="8305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WITH EXPRES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838080"/>
            <a:ext cx="5638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ad with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build fluency through rereading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120" y="1752480"/>
            <a:ext cx="7710480" cy="20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ok at that bird high in the sk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438280"/>
            <a:ext cx="7772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are and Contr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7621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compare and contrast while listening to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8080" y="990720"/>
            <a:ext cx="78487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es and orang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380880"/>
            <a:ext cx="69339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They are alike because they are fruit and ro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y are different because they are different colo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4400" y="1600200"/>
            <a:ext cx="76201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Counting on the Woo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5320" y="380880"/>
            <a:ext cx="73692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Something Spe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n every house on every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round and up and d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here’s something special going 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n every house in 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87480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appreciate the rhythm and rhyme of a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2666880"/>
            <a:ext cx="91440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are the birds and bugs different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2209680"/>
            <a:ext cx="91440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happens in the end of the book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1752480"/>
            <a:ext cx="8077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7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81532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ssemble – If you assemble something, you put all of it’s pieces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f I say something that can be assembled say “Assemble It!”.  If it can’t be assembled say no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28600"/>
            <a:ext cx="80773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sandw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picnic 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n outfit to 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80880"/>
            <a:ext cx="761976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Consume – If you consume something, you completely use it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 I say something that can be consumed say “Eat It!”.  If it can’t be consumed say nothing at 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28600"/>
            <a:ext cx="35812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hot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 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ce 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penc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Some rai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0"/>
            <a:ext cx="693396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Enthusiastic – If you are enthusiastic about something, you really like it and are excited 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f I say something you could get enthusiastic about then clap.  If you would not get enthusiastic about it do nothing at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762120"/>
            <a:ext cx="7162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ssing snac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tting a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getting your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ptying the t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to 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eaning you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ying in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on a pic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1905120"/>
            <a:ext cx="708660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CLAMA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1523880"/>
            <a:ext cx="80773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HYMING WO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0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990720"/>
            <a:ext cx="7315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Do you like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That dog is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My dog is so 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 see a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Did you make a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What a big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47920"/>
            <a:ext cx="7086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y dog is so fa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What a big m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28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1752480"/>
            <a:ext cx="7619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Writing sentences about events in your liv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8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generat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complete, coherent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0"/>
            <a:ext cx="701028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entences About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The sentences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They have words such as I, my, me, and w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97000"/>
            <a:ext cx="1981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generat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write complete, coherent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1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914400"/>
            <a:ext cx="7772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388620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2057400"/>
            <a:ext cx="8381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read 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590920"/>
            <a:ext cx="80769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ONEME BLEND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blend phonemes into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6:21:01Z</dcterms:created>
  <dc:creator>Valued Gateway Client</dc:creator>
  <dc:description/>
  <dc:language>en-US</dc:language>
  <cp:lastModifiedBy>Valued Gateway Client</cp:lastModifiedBy>
  <dcterms:modified xsi:type="dcterms:W3CDTF">2008-10-16T03:13:15Z</dcterms:modified>
  <cp:revision>4</cp:revision>
  <dc:subject/>
  <dc:title>Slide 1</dc:title>
</cp:coreProperties>
</file>