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727-755A-4B03-A78E-73477512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54E-CA16-4636-870B-DCC913BB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077-D436-4299-8C56-F22A29D8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E798-2815-4EB0-9ACD-EAAEF5DC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1BC-E463-4E92-B473-C2A7A30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9AD-3B32-4F98-9F28-588BB35F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0A7-7126-45C0-9637-99A32B70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B8E-28EC-44D0-A5DC-DF3365B1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2FD-1B69-479A-9C98-30FADE46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A99-B847-4761-BF7D-3D94909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B78-8FFC-4D8C-89F6-FEEDC2D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4D0-4048-40BA-80CD-8D83DA3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178-F1B9-4DFA-9884-6C5E96108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87692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ctober 1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sson 7 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00400" y="2286000"/>
            <a:ext cx="27432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l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495288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4876920"/>
            <a:ext cx="304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4952880"/>
            <a:ext cx="685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29400" y="4114800"/>
            <a:ext cx="762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10666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li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3733920"/>
            <a:ext cx="761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95480" y="3809880"/>
            <a:ext cx="30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3809880"/>
            <a:ext cx="304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15000" y="3505320"/>
            <a:ext cx="838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762120"/>
            <a:ext cx="838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et’s see if you can help me sound out some of the next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05120" y="2057400"/>
            <a:ext cx="50292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1143000"/>
            <a:ext cx="3429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28800" y="91440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3720" y="10666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362320" y="2362320"/>
            <a:ext cx="480060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52480" y="1905120"/>
            <a:ext cx="563904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251460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u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17524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14600" y="1828800"/>
            <a:ext cx="434340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las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57400" y="1905120"/>
            <a:ext cx="54864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90920" y="2209680"/>
            <a:ext cx="403848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2860560"/>
            <a:ext cx="19051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p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86200" y="2819520"/>
            <a:ext cx="190512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77120" y="2819520"/>
            <a:ext cx="22096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762120"/>
            <a:ext cx="8305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cognize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ords with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914400"/>
            <a:ext cx="7467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Let’s add an l to these words to make a new bl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95280" y="685800"/>
            <a:ext cx="67820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p = c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n = 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nd = bl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23880" y="457200"/>
            <a:ext cx="62485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838080"/>
            <a:ext cx="624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ff"/>
                </a:solidFill>
                <a:latin typeface="Arial"/>
              </a:rPr>
              <a:t>Let’s see what the words become when we add an l to make a new bl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23880" y="609480"/>
            <a:ext cx="670572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= 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 =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 = fl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 = bl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1532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pla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ll we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bla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t is called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 clap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gl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y have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en and Jill wa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762120"/>
            <a:ext cx="79246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What’s a special thing you like to d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 special thing I like to do is ______ because 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1447920"/>
            <a:ext cx="7620120" cy="23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33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304920"/>
            <a:ext cx="71625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10666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38680" y="12952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id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54100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im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2895480"/>
            <a:ext cx="312408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rst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62720" y="5410080"/>
            <a:ext cx="327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38680" y="2895480"/>
            <a:ext cx="320040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t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57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20040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EXPRES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838080"/>
            <a:ext cx="5638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it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build fluency through rereading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752480"/>
            <a:ext cx="7710480" cy="20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ok at that bird high in the sk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438280"/>
            <a:ext cx="7772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are and Contr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762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compare and contrast while listening to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080" y="990720"/>
            <a:ext cx="78487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es and orang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380880"/>
            <a:ext cx="69339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They are alike because they are fruit and 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y are different because they are different colo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400" y="1600200"/>
            <a:ext cx="76201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5320" y="380880"/>
            <a:ext cx="73692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Something Spe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on every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round and up and d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ere’s something special going 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in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87480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appreciate the rhythm and rhyme of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2666880"/>
            <a:ext cx="9144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are the birds and bugs differen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2209680"/>
            <a:ext cx="91440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happens in the end of the book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752480"/>
            <a:ext cx="8077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7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1532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ssemble – If you assemble something, you put all of it’s pieces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f I say something that can be assembled say “Assemble It!”.  If it can’t be assembled say no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28600"/>
            <a:ext cx="80773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sandw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icnic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n outfit to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80880"/>
            <a:ext cx="7619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Consume – If you consume something, you completely use it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 I say something that can be consumed say “Eat It!”.  If it can’t be consumed say nothing at 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28600"/>
            <a:ext cx="3581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hot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ce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penc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ome rai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0"/>
            <a:ext cx="693396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Enthusiastic – If you are enthusiastic about something, you really like it and are excite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f I say something you could get enthusiastic about then clap.  If you would not get enthusiastic about it do nothing at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762120"/>
            <a:ext cx="7162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ssing snac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ting a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getting your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ptying the t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to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eaning you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ing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on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1905120"/>
            <a:ext cx="70866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CLAMA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152388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HYMING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990720"/>
            <a:ext cx="7315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o you like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That dog is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My dog is so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 se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id you mak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What a big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7086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y dog is so fa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What a big m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28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1752480"/>
            <a:ext cx="7619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riting sentences about events in your li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701028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entences About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 sentences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y have words such as I, my, me, and w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97000"/>
            <a:ext cx="1981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1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7772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38862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205740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590920"/>
            <a:ext cx="80769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ONEME BLEN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blend phonemes into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6:21:01Z</dcterms:created>
  <dc:creator>Valued Gateway Client</dc:creator>
  <dc:description/>
  <dc:language>en-US</dc:language>
  <cp:lastModifiedBy>Valued Gateway Client</cp:lastModifiedBy>
  <dcterms:modified xsi:type="dcterms:W3CDTF">2008-10-16T03:13:15Z</dcterms:modified>
  <cp:revision>4</cp:revision>
  <dc:subject/>
  <dc:title>Slide 1</dc:title>
</cp:coreProperties>
</file>