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whoosh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E8D-3ECE-4769-AE42-D00B0925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E3C-35B0-4A42-9562-44867386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8EA-CACB-4310-8417-68D9FCD7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5FF-E5F4-418D-BC06-09E7B626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626-D144-40F1-A96D-C2C0A942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2AB-C3E6-4D0F-AE89-9998945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E8C-6324-4777-8DA5-E673AB9D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82E-CDBE-4A23-9CB9-9D39A237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75F-A7D5-4307-9F1C-0901D9A1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11C-5E40-43B1-848C-6E70CEB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4DC-4757-4B17-8012-EBE11C1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261-52D9-450B-A3BF-10140EB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0EDE-5AC9-4837-99AA-A839764F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ida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7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cl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f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fl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600200"/>
            <a:ext cx="4419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has almost the same meaning as build or assem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means the same as gobble or sn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! What is that beh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! What is that cr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 Something is coming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comes! It is so bi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mind. It is just m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That dog is so big. My cat is so sma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bou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gether- “Little Red Hen Gets Hel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- Remember exciting events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and en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ersonal words, such as I, my, m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omething special that belongs to you? Why is it spe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pecial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1523880"/>
            <a:ext cx="464832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Aloud –             “Something Special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74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04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62320" y="91440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W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l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l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s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sl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0-16T03:41:37Z</dcterms:modified>
  <cp:revision>49</cp:revision>
  <dc:subject/>
  <dc:title>Slide 1</dc:title>
</cp:coreProperties>
</file>