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whoosh.wav" ContentType="audio/x-wav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B9A-0CD3-4623-B465-1E0B8EC6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E53-1831-4590-A76D-949CF191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B50-D58A-4C33-9707-14D99B95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A6C-1549-443F-B107-3889FAF0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B13-788F-4FF4-BBA7-977D562A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E52-8374-440B-9D42-448CC878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C1F-3EAA-4F22-862A-7E77DB23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8AC-4147-4044-B97B-69566D1C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C3A-B79F-4D25-8C7E-4243D7F5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640-F666-4582-B530-55804FEC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FF2-180E-47B2-9E0D-1E617334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8AB-5A6E-466C-872C-2A18F759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16D5-F852-4556-896B-FBFD2CB4C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ida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7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cl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f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fl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523880"/>
            <a:ext cx="297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1600200"/>
            <a:ext cx="4419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has almost the same meaning as build or assem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 means the same as gobble or sn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! What is that beh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! What is that cre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! Something is coming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t comes! It is so bi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mind. It is just my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That dog is so big. My cat is so small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 Abou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gether- “Little Red Hen Gets Hel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- Remember exciting events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amation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letters and end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ersonal words, such as I, my, me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 about a special event with family or friends.  Ask  your partners question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something special that belongs to you? Why is it spe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pecial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7080" y="1523880"/>
            <a:ext cx="464832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d Aloud –             “Something Special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74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o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049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362320" y="914400"/>
            <a:ext cx="4419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 W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ba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l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l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si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sli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0-16T03:41:37Z</dcterms:modified>
  <cp:revision>49</cp:revision>
  <dc:subject/>
  <dc:title>Slide 1</dc:title>
</cp:coreProperties>
</file>