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media/image8.png" ContentType="image/png"/>
  <Override PartName="/ppt/media/image7.gif" ContentType="image/gif"/>
  <Override PartName="/ppt/media/image9.jpeg" ContentType="image/jpeg"/>
  <Override PartName="/ppt/media/image10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C67-A851-434F-9432-C9CEBB23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D0E-23FA-4C4E-9E21-B24B8E29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6A7-4F20-4F7A-AD77-6FC6ECD1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265-CC68-40F9-B6A7-BC341A56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8A8-5739-471E-A2E7-7CAD6BD8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2DB-F639-48BE-B643-CF99D6D4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9F5-C187-4876-9DF5-2126C345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9B2-9F65-4948-B355-20D1757B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22D-36AD-4B00-ACAB-C6C52425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A59-1503-40B7-A5DC-D372141C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602-2077-4537-89E6-DEFDA04A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698-27B8-45D3-842A-A2805308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8EFB-4D9F-4C57-B214-B95EAA60C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file:///tmp/home/.config/libreoffice/4/user/gallery/MSj00746860000%5B1%5D.wav" TargetMode="External"/><Relationship Id="rId3" Type="http://schemas.microsoft.com/office/2007/relationships/media" Target="file:///tmp/home/.config/libreoffice/4/user/gallery/MSj00746860000%5B1%5D.wav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20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8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914400"/>
            <a:ext cx="685800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2895480"/>
            <a:ext cx="693396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5105520"/>
            <a:ext cx="6858000" cy="1752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25146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46483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Begi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52578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312408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Midd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4678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queak and Pepper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2787480"/>
            <a:ext cx="60958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au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t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pplaud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4880" y="214200"/>
            <a:ext cx="235728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pplauded for someone, you clapped your hands to show you liked what they di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57200" y="2517840"/>
            <a:ext cx="2548080" cy="2450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54040" y="64296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734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26000" y="15937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are chatty, you really like to tal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43120" y="26820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att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036880"/>
            <a:ext cx="4573440" cy="3033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0" y="1785600"/>
            <a:ext cx="39114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gather things, you bring them together in on plac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89120" y="0"/>
            <a:ext cx="35910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51120" y="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ath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5840" y="2251080"/>
            <a:ext cx="450036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along the meadow where the cows grazed and the horses ran, there was an old stone w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the farmers had moved away, the barn was abandon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522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would you like to see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walk in the woo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ould lik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___________ in the w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22860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a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went to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ban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bo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went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59080" y="0"/>
            <a:ext cx="474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from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ak in complete, coherent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9810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__________ went to the ______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ntence ask for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often begin with words lik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begin with a capital letter and end with a question mark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writing effective ques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urn and Talk-    Ask one another questions that begin with question word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Counting on the Wood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9528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diagraph /th/ th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agraph /th/ 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4800" y="914400"/>
            <a:ext cx="50292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that begins with /th/, you  hold up your thumb in front of your chest.  When I say a word that does not begin with /th/, put your thumb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that ends with /th/, you hold you your thumb in front of your chest.  When I say a word that does not end with /th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 Diagraph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55040" y="0"/>
            <a:ext cx="1488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diagraph /th/ th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3880" y="1600200"/>
            <a:ext cx="586764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4541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7760" y="1218960"/>
            <a:ext cx="99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th/ t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th/ th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1143000"/>
            <a:ext cx="5257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3:58:41Z</dcterms:modified>
  <cp:revision>56</cp:revision>
  <dc:subject/>
  <dc:title>Slide 1</dc:title>
</cp:coreProperties>
</file>