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media/image10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0AC-6787-44C3-BEC0-325DD041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F39-4116-4C66-A46A-2FE7C62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608-0B5B-4C7E-81B2-686014A8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05F-EF48-47A5-B155-338B861C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559-3B58-4033-8137-D6B1D2E9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39D-A769-4E7E-91AF-B55FA03B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EDB-34B0-4A3A-8183-3432F16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4C4-13CE-4807-B6AA-78DAE16E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DBD-2802-49FA-AE34-7EBFA563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573-E622-4659-81FE-7A0F3AC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91C-4C66-4BD7-AD5B-7CDD87A5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376-D9E7-40E8-A15F-34904C59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4CAE-6E3C-4BBB-B22E-C74B72C1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MSj00746860000%5B1%5D.wav" TargetMode="External"/><Relationship Id="rId3" Type="http://schemas.microsoft.com/office/2007/relationships/media" Target="file:///tmp/home/.config/libreoffice/4/user/gallery/MSj00746860000%5B1%5D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8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734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along the meadow where the cows grazed and the horses ran, there was an old ston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the farmers had moved away, the barn was abandon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ould you like to se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walk in the w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________ in the w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an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59080" y="0"/>
            <a:ext cx="47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ak in complete, coherent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___ went to the 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-    Ask one another questions that begin with question word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agraph /th/ 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914400"/>
            <a:ext cx="50292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th/, you  hold up your thumb in front of your chest.  When I say a word that does not begin with /th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/th/, you hold you your thumb in front of your chest.  When I say a word that does not end with /t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 Diagraph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5040" y="0"/>
            <a:ext cx="148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600200"/>
            <a:ext cx="58676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454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th/ t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8:41Z</dcterms:modified>
  <cp:revision>56</cp:revision>
  <dc:subject/>
  <dc:title>Slide 1</dc:title>
</cp:coreProperties>
</file>