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5955-37E8-4F6F-8AC4-BAFDCBFD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7DE-08F9-4298-899E-9A9A963A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7C3-0A1C-48F9-8FF2-CDEF2BDE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9ED4-E176-49AA-BE02-B094E4C5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9804-B4A1-46FF-900F-94B62A80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3FA-D2B7-4EF6-87F1-68BE9DF0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59A3-79B3-473D-A4A1-E80D9A85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7793-9D7B-42BF-9BDF-B978D642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6A3-17B7-434D-88A0-3F93E1CD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D7E-612A-4BC7-BF05-89188229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974-F808-4ACB-A3A8-3EF693B8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FDB0-D99A-45F0-87A5-1385FCD8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CA77-AC5B-4024-B076-11D9D2B20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71560" y="274680"/>
            <a:ext cx="7400880" cy="585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95480" y="533520"/>
            <a:ext cx="495324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Wednes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October 22</a:t>
            </a:r>
            <a:r>
              <a:rPr b="1" lang="en-US" sz="3000" spc="-1" strike="noStrike" baseline="30000">
                <a:solidFill>
                  <a:srgbClr val="ffffff"/>
                </a:solidFill>
                <a:latin typeface="Century Gothic"/>
              </a:rPr>
              <a:t>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Lesson 8, Day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/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Flowers Grow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438280"/>
            <a:ext cx="4114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152280"/>
            <a:ext cx="213336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u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v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s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04920"/>
            <a:ext cx="175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7238880" y="152280"/>
            <a:ext cx="1676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768760" y="393840"/>
            <a:ext cx="3963960" cy="127620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4680" y="399600"/>
            <a:ext cx="41338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u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59680" y="1714680"/>
            <a:ext cx="288432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A duty is a job you have to do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2036880"/>
            <a:ext cx="6000840" cy="399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697360" y="2017800"/>
            <a:ext cx="30798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When you feel envy, you want something that someone else has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97120" y="303120"/>
            <a:ext cx="3963960" cy="127800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30680" y="276120"/>
            <a:ext cx="36972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nv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768320"/>
            <a:ext cx="530388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1905120"/>
            <a:ext cx="34164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You might resent someone if you feel that that person is being treated better, or more fairly, than you 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57200"/>
            <a:ext cx="5638680" cy="137160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85800"/>
            <a:ext cx="495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resen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73920" y="838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4271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81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boys went to the p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my mom run up that h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irl went into the 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my dad go to the ba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828800" y="3809880"/>
          <a:ext cx="5181480" cy="17640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838080" y="5943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Arial"/>
              </a:rPr>
              <a:t>____________ went to the _____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2286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 To identify and read nou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is my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w did that get the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ntences ask for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often begin with words li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h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begin with a capital letter and end with a question ma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0"/>
            <a:ext cx="2133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98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98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98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8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8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at plant grows near your ho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ell how it looks, feels, and smell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_______ grows near my home.  It looks _______.  It smells _______.  It feels _______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457200"/>
            <a:ext cx="7391520" cy="9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entury Gothic"/>
              </a:rPr>
              <a:t>Question of the D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entury Gothic"/>
              <a:ea typeface="Century Gothic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5791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ig Book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hymes 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oems-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mmy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380880"/>
            <a:ext cx="7010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National First Font"/>
              </a:rPr>
              <a:t>Read Alou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National First Font"/>
              <a:ea typeface="National First Fon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35600" y="1601640"/>
            <a:ext cx="3462120" cy="4523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57913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M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3880" y="380880"/>
            <a:ext cx="617220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Century Gothic"/>
              </a:rPr>
              <a:t>Word Wal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ffff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56" name=""/>
          <p:cNvSpPr/>
          <p:nvPr/>
        </p:nvSpPr>
        <p:spPr>
          <a:xfrm>
            <a:off x="7848720" y="380880"/>
            <a:ext cx="114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 -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ccff"/>
                </a:solidFill>
                <a:latin typeface="Arial Black"/>
              </a:rPr>
              <a:t>Phonemic Awarenes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Phoneme Blending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381560" cy="2992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4800" y="228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Arial Black"/>
              </a:rPr>
              <a:t>Build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12952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981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27432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3505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4267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12952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12952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19810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981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274320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27432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50532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5053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426708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4267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380880"/>
            <a:ext cx="18288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build and blend words with /th/ th and other known letter-s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Spelling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w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g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a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2286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igh Frequency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n’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Detai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eak and Peppe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at art supplies did they find and u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ory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14600" y="3781440"/>
            <a:ext cx="3733920" cy="2212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705720" y="304920"/>
            <a:ext cx="228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3a3e0"/>
                </a:solidFill>
                <a:latin typeface="Arial"/>
              </a:rPr>
              <a:t>Objective:  To identify story de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01:17:33Z</dcterms:created>
  <dc:creator>Valued Gateway Client</dc:creator>
  <dc:description/>
  <dc:language>en-US</dc:language>
  <cp:lastModifiedBy>Valued Gateway Client</cp:lastModifiedBy>
  <dcterms:modified xsi:type="dcterms:W3CDTF">2008-10-21T23:48:31Z</dcterms:modified>
  <cp:revision>9</cp:revision>
  <dc:subject/>
  <dc:title>Slide 1</dc:title>
</cp:coreProperties>
</file>