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A855-00A3-4456-9AA4-2FBAC58A4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E5DC-E758-4544-9D67-0EDFAC10D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150E-8E27-4D27-828C-F2FE4AD61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123B-69DE-4741-A9FA-A47F4FC37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D3AA-CDAC-43C4-B9FF-33294A027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2C85-76E4-4DBB-A78F-CC78A4752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1148-9C5A-498B-B631-9CD9CF1F2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4EB8-D77A-4727-864F-E0838D21E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72CC-9574-4CC3-8CE4-5D4977AEE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B63E-7016-4C36-8ABA-160B075B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BFCD-0231-4050-B3DB-CCFAE080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BF88-8AD2-48A5-89F4-A45904C6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F0317-521C-499C-934F-E4B0CDC19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content.thinkcentral.com/content/hsp/reading/storytown/na/gr1/se_9780153597732_/grade1/shell.html?grade=1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71560" y="274680"/>
            <a:ext cx="7400880" cy="5851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895480" y="533520"/>
            <a:ext cx="4953240" cy="19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Wednesd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October 22</a:t>
            </a:r>
            <a:r>
              <a:rPr b="1" lang="en-US" sz="3000" spc="-1" strike="noStrike" baseline="30000">
                <a:solidFill>
                  <a:srgbClr val="ffffff"/>
                </a:solidFill>
                <a:latin typeface="Century Gothic"/>
              </a:rPr>
              <a:t>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Lesson 8, Day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ading/Conn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00cc00"/>
                </a:solidFill>
                <a:latin typeface="Arial"/>
              </a:rPr>
              <a:t>Flowers Grow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4600" y="2438280"/>
            <a:ext cx="4114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alled go to your first rot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05720" y="152280"/>
            <a:ext cx="213336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bust 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ut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nv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es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162920" y="304920"/>
            <a:ext cx="1752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7238880" y="152280"/>
            <a:ext cx="16765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768760" y="393840"/>
            <a:ext cx="3963960" cy="1276200"/>
          </a:xfrm>
          <a:prstGeom prst="roundRect">
            <a:avLst>
              <a:gd name="adj" fmla="val 10486"/>
            </a:avLst>
          </a:prstGeom>
          <a:solidFill>
            <a:srgbClr val="ff8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04680" y="399600"/>
            <a:ext cx="413388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u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59680" y="1714680"/>
            <a:ext cx="2884320" cy="43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mic Sans MS"/>
              </a:rPr>
              <a:t>A duty is a job you have to do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2036880"/>
            <a:ext cx="6000840" cy="3998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697360" y="2017800"/>
            <a:ext cx="3079800" cy="49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omic Sans MS"/>
              </a:rPr>
              <a:t>When you feel envy, you want something that someone else has.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697120" y="303120"/>
            <a:ext cx="3963960" cy="1278000"/>
          </a:xfrm>
          <a:prstGeom prst="roundRect">
            <a:avLst>
              <a:gd name="adj" fmla="val 10486"/>
            </a:avLst>
          </a:prstGeom>
          <a:solidFill>
            <a:srgbClr val="ff8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30680" y="276120"/>
            <a:ext cx="36972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envy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1768320"/>
            <a:ext cx="5303880" cy="53038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57800" y="1905120"/>
            <a:ext cx="341640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You might resent someone if you feel that that person is being treated better, or more fairly, than you a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57200"/>
            <a:ext cx="5638680" cy="1371600"/>
          </a:xfrm>
          <a:prstGeom prst="roundRect">
            <a:avLst>
              <a:gd name="adj" fmla="val 10486"/>
            </a:avLst>
          </a:prstGeom>
          <a:solidFill>
            <a:srgbClr val="ff8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85800"/>
            <a:ext cx="4952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mic Sans MS"/>
              </a:rPr>
              <a:t>resent</a:t>
            </a: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873920" y="8380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990720" y="2133720"/>
            <a:ext cx="42717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309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2" dur="814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mm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1532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wo boys went to the po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d my mom run up that hi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irl went into the m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d my dad go to the ban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828800" y="3809880"/>
          <a:ext cx="5181480" cy="17640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o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838080" y="59436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99"/>
                </a:solidFill>
                <a:latin typeface="Arial"/>
              </a:rPr>
              <a:t>____________ went to the ________________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010280" y="228600"/>
            <a:ext cx="19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bjective:  To identify and read nou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hat is my jo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ow did that get ther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entences ask for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often begin with words lik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wh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wha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wh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how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begin with a capital letter and end with a question mar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0" y="0"/>
            <a:ext cx="21337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bjective: To understand that questions are a kind of sentence that be used to find out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898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898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898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898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898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898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What plant grows near your hom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Tell how it looks, feels, and smell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_______ grows near my home.  It looks _______.  It smells _______.  It feels _______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838080" y="457200"/>
            <a:ext cx="7391520" cy="98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Century Gothic"/>
              </a:rPr>
              <a:t>Question of the Day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Century Gothic"/>
              <a:ea typeface="Century Gothic"/>
            </a:endParaRPr>
          </a:p>
        </p:txBody>
      </p:sp>
      <p:sp>
        <p:nvSpPr>
          <p:cNvPr id="46" name=""/>
          <p:cNvSpPr/>
          <p:nvPr/>
        </p:nvSpPr>
        <p:spPr>
          <a:xfrm>
            <a:off x="5105520" y="57913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343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ig Book o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hymes a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oems-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ommy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90720" y="380880"/>
            <a:ext cx="70102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National First Font"/>
              </a:rPr>
              <a:t>Read Alou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National First Font"/>
              <a:ea typeface="National First Font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935600" y="1601640"/>
            <a:ext cx="3462120" cy="4523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80880" y="579132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bjective: To develop the ability to listen for a purp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don’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M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n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s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sa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w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than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523880" y="380880"/>
            <a:ext cx="6172200" cy="103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Century Gothic"/>
              </a:rPr>
              <a:t>Word Wall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ffffff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sp>
        <p:nvSpPr>
          <p:cNvPr id="56" name=""/>
          <p:cNvSpPr/>
          <p:nvPr/>
        </p:nvSpPr>
        <p:spPr>
          <a:xfrm>
            <a:off x="7848720" y="380880"/>
            <a:ext cx="1143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bjective - To read high 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ccff"/>
                </a:solidFill>
                <a:latin typeface="Arial Black"/>
              </a:rPr>
              <a:t>Phonemic Awarenes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Phoneme Blending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86000" y="2743200"/>
            <a:ext cx="4381560" cy="2992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114800" y="22860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bjective: To blend phonemes into w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Arial Black"/>
              </a:rPr>
              <a:t>Build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24080" y="12952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19810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27432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3505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24080" y="42670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81280" y="129528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86200" y="129528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86200" y="198108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81280" y="1981080"/>
            <a:ext cx="38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81280" y="2743200"/>
            <a:ext cx="38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733920" y="274320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81280" y="3505320"/>
            <a:ext cx="38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33920" y="350532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81280" y="4267080"/>
            <a:ext cx="30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733920" y="42670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781680" y="380880"/>
            <a:ext cx="182880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bjective: To build and blend words with /th/ th and other known letter-sou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Spelling Wor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3848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th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th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th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th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pa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wi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t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g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sa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w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86600" y="22860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High Frequency Wo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n’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952880" y="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"/>
              </a:rPr>
              <a:t>Detai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queak and Pepper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What art supplies did they find and us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ory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514600" y="3781440"/>
            <a:ext cx="3733920" cy="22129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705720" y="304920"/>
            <a:ext cx="2286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3a3e0"/>
                </a:solidFill>
                <a:latin typeface="Arial"/>
              </a:rPr>
              <a:t>Objective:  To identify story detai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01:17:33Z</dcterms:created>
  <dc:creator>Valued Gateway Client</dc:creator>
  <dc:description/>
  <dc:language>en-US</dc:language>
  <cp:lastModifiedBy>Valued Gateway Client</cp:lastModifiedBy>
  <dcterms:modified xsi:type="dcterms:W3CDTF">2008-10-21T23:48:31Z</dcterms:modified>
  <cp:revision>9</cp:revision>
  <dc:subject/>
  <dc:title>Slide 1</dc:title>
</cp:coreProperties>
</file>