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12FCB-FA4F-4700-AB88-D0D66BEB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2A27-C2B7-4CA6-9FD0-D9D4AA66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09AF-0119-45FE-B02B-1575F807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224F-F253-4604-AFC0-E2A95E25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A7E3-18F4-4734-9CB5-0BF187D0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22FA-8BAC-44AA-BFD4-BB30DBBE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C8FC-B1B8-4778-BF90-DBEDA62D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56DB-675C-406D-AE0C-868A54A7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024F-0359-4501-A108-D2899D6F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D1D6-1722-45BE-8BD9-EE8D2C81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FED0-B8AA-4964-9A95-C0AA6366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6051-81B5-4DB8-B811-0C4CB2AE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BB46-DA3B-41BC-8A25-F93485C0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0B0D-140F-42FD-9E6D-8A9DC022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C61-74C6-4486-A428-770BC4F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DDDE-1376-489F-8AD6-7E9EE763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8309-18E8-44AA-8E48-9AC56536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26CE-5FE7-45B4-B9A7-1F65D2EA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A364-2908-4118-AA42-2ADDBBA1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F2BC-41E3-4E45-903B-C1C0A6B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D23B-07C6-4CBD-8294-2D57486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8C6A-D882-41B1-B694-504A84BD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CB8F-2061-4D77-8F6D-D5B256E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CDCC-3A3E-4843-BFF2-71DD4261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79B9-89CD-4EB9-B344-6EA8507BD1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583C-9751-425B-AF45-B8EC89B996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275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4952880"/>
            <a:ext cx="6324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ramond"/>
              </a:rPr>
              <a:t>Thursday October 23</a:t>
            </a:r>
            <a:r>
              <a:rPr b="0" lang="en-US" sz="4800" spc="-1" strike="noStrike" baseline="30000">
                <a:solidFill>
                  <a:srgbClr val="ffcc00"/>
                </a:solidFill>
                <a:latin typeface="Garamond"/>
              </a:rPr>
              <a:t>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ramond"/>
              </a:rPr>
              <a:t>Lesson 8 Day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266688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ital Blends with 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8088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Objectiv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To recognize initial blends with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To read words with initial blends with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666880" y="7621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38280" y="518148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95480" y="2514600"/>
            <a:ext cx="3429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8580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 = s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51814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 = s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2743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 = s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0"/>
            <a:ext cx="746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p = s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696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 = 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541008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ll = sm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65760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ck = st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an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and Slim got a new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i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down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mall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h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n they sped down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ick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op!”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said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a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 sli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op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s fast!” said Sl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0"/>
            <a:ext cx="4114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Objectiv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To use /th/ and other known letter-sounds to spell and write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83808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048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828800"/>
            <a:ext cx="8076960" cy="64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p  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ath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   a   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that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68580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67652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25909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3581280"/>
            <a:ext cx="2743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457200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5638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588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2590920"/>
            <a:ext cx="23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29400" y="57150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477120" y="358128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629400" y="45720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28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spell and write known high frequency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6094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3105000"/>
            <a:ext cx="2819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n'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6200" y="3105000"/>
            <a:ext cx="2133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29400" y="3105000"/>
            <a:ext cx="2514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44956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705720" y="44197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9880" y="4495680"/>
            <a:ext cx="19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05320" y="57913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286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read high frequency 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91320" y="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listen attentively and respond appropriately to oral communication; to share prior knowled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600200"/>
            <a:ext cx="8534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8381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You know a seed grows.  What is something else that gro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A ____________ starts as a______and grows into a ______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520" y="3049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2209680"/>
            <a:ext cx="8991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I don't like that job," says Beth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843200" y="3105000"/>
            <a:ext cx="5457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ff is the line leade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396252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You can water the plant," said Mr. Hal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19280" y="5029200"/>
            <a:ext cx="590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x has a new job, too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33520" y="6095880"/>
            <a:ext cx="627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th likes her job at last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33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80880"/>
            <a:ext cx="830556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Garamond"/>
              </a:rPr>
              <a:t>Concepts of Prin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The words below a picture tells about what is in a pictu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These words are called a cap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627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14600" y="5943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lloween 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3657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00200" y="5638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Cupcake Sp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4190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7400" y="571500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A Mean Old Wi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562720" cy="403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52480" y="594360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cary jack-o-lante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66680" y="8380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tai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9718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Details are bits of information that tell more about somethi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0520" y="228600"/>
            <a:ext cx="56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recognize details while listening to a sto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380880"/>
            <a:ext cx="8229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Garamond"/>
              </a:rPr>
              <a:t>Tell me some details that you remember about the plant in </a:t>
            </a:r>
            <a:r>
              <a:rPr b="1" lang="en-US" sz="8000" spc="-1" strike="noStrike" u="sng">
                <a:solidFill>
                  <a:srgbClr val="00ff00"/>
                </a:solidFill>
                <a:uFillTx/>
                <a:latin typeface="Garamond"/>
              </a:rPr>
              <a:t>Beth’s Jo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33520" y="380880"/>
            <a:ext cx="8305560" cy="337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unting on the Woo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5562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914400"/>
            <a:ext cx="556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What kinds of things does the author coun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65760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things found in the woods, birds, bugs, n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70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11430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How do trees help us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48006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Garamond"/>
              </a:rPr>
              <a:t>They clean the 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785520" y="320040"/>
            <a:ext cx="7419600" cy="5175360"/>
            <a:chOff x="785520" y="320040"/>
            <a:chExt cx="7419600" cy="5175360"/>
          </a:xfrm>
        </p:grpSpPr>
        <p:sp>
          <p:nvSpPr>
            <p:cNvPr id="191" name="_s59404"/>
            <p:cNvSpPr/>
            <p:nvPr/>
          </p:nvSpPr>
          <p:spPr>
            <a:xfrm flipH="1">
              <a:off x="2709000" y="3900960"/>
              <a:ext cx="889560" cy="3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59403"/>
            <p:cNvSpPr/>
            <p:nvPr/>
          </p:nvSpPr>
          <p:spPr>
            <a:xfrm>
              <a:off x="785520" y="390312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Garamond"/>
                </a:rPr>
                <a:t>Live in the mos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59402"/>
            <p:cNvSpPr/>
            <p:nvPr/>
          </p:nvSpPr>
          <p:spPr>
            <a:xfrm>
              <a:off x="5387760" y="3903120"/>
              <a:ext cx="893160" cy="39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59401"/>
            <p:cNvSpPr/>
            <p:nvPr/>
          </p:nvSpPr>
          <p:spPr>
            <a:xfrm>
              <a:off x="6142320" y="390096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Garamond"/>
                </a:rPr>
                <a:t>One has pincher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59400"/>
            <p:cNvSpPr/>
            <p:nvPr/>
          </p:nvSpPr>
          <p:spPr>
            <a:xfrm flipV="1">
              <a:off x="4495320" y="1911960"/>
              <a:ext cx="0" cy="79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59399"/>
            <p:cNvSpPr/>
            <p:nvPr/>
          </p:nvSpPr>
          <p:spPr>
            <a:xfrm>
              <a:off x="3463920" y="32004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Hard shel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59398"/>
            <p:cNvSpPr/>
            <p:nvPr/>
          </p:nvSpPr>
          <p:spPr>
            <a:xfrm>
              <a:off x="3463920" y="270864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Three bug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553080" y="3049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Objective: To review robust vocabula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286000"/>
            <a:ext cx="80773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920" y="1752480"/>
            <a:ext cx="838188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ty - a job you have to do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304920"/>
            <a:ext cx="7620120" cy="10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I will say some things people do.  </a:t>
            </a:r>
            <a:r>
              <a:rPr b="1" i="1" lang="en-US" sz="6000" spc="-1" strike="noStrike">
                <a:solidFill>
                  <a:srgbClr val="00ff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If you think it is a duty, or a job, raise your hand.  If it is not a duty then do nothing at al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304920"/>
            <a:ext cx="62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ting ice crea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47920"/>
            <a:ext cx="641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utting away to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243828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ing a so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5867280"/>
            <a:ext cx="7039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hing the window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4876920"/>
            <a:ext cx="6319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weeping a roo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3733920"/>
            <a:ext cx="6172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ding a bik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685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v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388620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nting something someone else ha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8580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Listen to the words I am going to say.  Nod your head if you would feel envy if someone had these thing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04920" y="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new bicyc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6858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broken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523880"/>
            <a:ext cx="63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trip to the zo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600" y="2362320"/>
            <a:ext cx="6272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broken penci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3124080"/>
            <a:ext cx="679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 old pair of soc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4114800"/>
            <a:ext cx="64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shiny red app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8600" y="4800600"/>
            <a:ext cx="5334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new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5410080"/>
            <a:ext cx="6586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day at the bea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5800" y="83808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s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5812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You might resent someone if you feel that that person is being treated better, or more fairly, than you a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304920"/>
            <a:ext cx="6705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Imagine that someone did the following things.  If you would resent that person for doing the activity clap once.  If you would not resent that person do nothing at 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6019920"/>
            <a:ext cx="6762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ok the last cooki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with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880" y="83808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ed you for hel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1676520"/>
            <a:ext cx="7239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ft you out of a ga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5181480"/>
            <a:ext cx="65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ared a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514600"/>
            <a:ext cx="689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ok your place in l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4343400"/>
            <a:ext cx="6457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ked you to p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3429000"/>
            <a:ext cx="62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ave you a sn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2120" y="1676520"/>
            <a:ext cx="7467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049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Objective: To identify nouns that name people or pla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To use nouns that name people or places in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68580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Garamond"/>
              </a:rPr>
              <a:t>Nouns are a person, place, or thing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152280"/>
            <a:ext cx="7924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dad went to a farm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23920" y="1447920"/>
            <a:ext cx="689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mom jogged to the mal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81080" y="2743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 went home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395440" y="3809880"/>
            <a:ext cx="4353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th is at schoo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715000" y="22860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select a focus when 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o write complete, coherent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2133720"/>
            <a:ext cx="7238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8380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Garamond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 sentences ask for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often begin with words like who, what, when, where, why, or 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begin with a capital letter and end with a question m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62120" y="762120"/>
            <a:ext cx="7619760" cy="29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hym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562720" y="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appreciate the rhythm and rhyme of a poem; to recite a contemporary po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371600"/>
            <a:ext cx="784836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 That I’m kno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at isn’t sho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I’m grow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438280" y="762120"/>
            <a:ext cx="46483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n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09480" y="304920"/>
            <a:ext cx="7925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066680"/>
            <a:ext cx="8153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n’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78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 – to read high frequency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15228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blen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00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    e    s    t - b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286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 n   a   p -sn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95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  o  th - mo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657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  ur  s  t - fir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5720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  a  th -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54864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l  e  p - slee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l  e  d - s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209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p  e  n  t - sp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8756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w  e  t - sw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8380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bjective: To blend phonemes into recognizable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58:45Z</dcterms:created>
  <dc:creator>Valued Gateway Client</dc:creator>
  <dc:description/>
  <dc:language>en-US</dc:language>
  <cp:lastModifiedBy>Valued Gateway Client</cp:lastModifiedBy>
  <dcterms:modified xsi:type="dcterms:W3CDTF">2008-10-23T01:29:22Z</dcterms:modified>
  <cp:revision>8</cp:revision>
  <dc:subject/>
  <dc:title>Slide 1</dc:title>
</cp:coreProperties>
</file>