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FF9A5-154A-4DCE-939E-51A4245A5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342E8-11AA-4B0F-8C07-8FEFB346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A99F4-7C4D-4518-B79C-4FA2D8491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AD86F-0CB3-48E2-9530-13B6A25D0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7432-7C0F-43E8-B956-B1AD59AEA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7795-2F5F-4302-BD41-3B8FB94A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95F6-60E1-4132-BC1E-CA85C0B1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61DD-389F-4DDC-9E53-295EC003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E118-1953-4EEF-81A5-49C355CE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C796-772A-4776-8FB3-8D42FD06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CCB8-5682-4FF3-8BD9-8906DBA1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7C5E6-2D73-4F53-A26D-607B8B95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4794-41AA-4F0C-AC21-723622D9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6919-B73F-41BE-B122-16B434A9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CD30-163F-454C-ACDD-CB786D46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AA8E-FAFC-4C88-BF7C-F62ACF753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979B-5849-4B36-8DC4-9830B37FC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3A4DC-4337-4489-877F-E0CD9B6E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E731E-1AC0-4633-A149-51A03CE0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01F1A-FC69-473A-8D6B-EF650B99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C1BFD-85C9-4912-8990-204318AE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AC318-401E-49A0-AFCB-F860D21D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9ECE8-92C4-4678-B7F7-9B967B9F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2BE18-2E95-4F86-913E-5E268325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5CFF-C444-4F08-B380-01D52992B3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5B30-43D6-439D-8E0E-D1B2B1C194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648320" cy="2757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371600" y="4952880"/>
            <a:ext cx="6324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Garamond"/>
              </a:rPr>
              <a:t>Thursday October 23</a:t>
            </a:r>
            <a:r>
              <a:rPr b="0" lang="en-US" sz="4800" spc="-1" strike="noStrike" baseline="30000">
                <a:solidFill>
                  <a:srgbClr val="ffcc00"/>
                </a:solidFill>
                <a:latin typeface="Garamond"/>
              </a:rPr>
              <a:t>r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Garamond"/>
              </a:rPr>
              <a:t>Lesson 8 Day 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2666880"/>
            <a:ext cx="86104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nital Blends with 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380880"/>
            <a:ext cx="6858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Objectiv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To recognize initial blends with 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To read words with initial blends with 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666880" y="762120"/>
            <a:ext cx="3962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ap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438280" y="518148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ic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895480" y="2514600"/>
            <a:ext cx="34290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i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228600"/>
            <a:ext cx="86868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Garamond"/>
              </a:rPr>
              <a:t>Let’s see what happens when we add an s to the beginning of each wor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066680" y="685800"/>
            <a:ext cx="7315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ap = snap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5181480"/>
            <a:ext cx="8229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ick = stic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2743200"/>
            <a:ext cx="7772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in = spi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228600"/>
            <a:ext cx="86868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Garamond"/>
              </a:rPr>
              <a:t>Let’s see what happens when we add an s to the beginning of each wor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8080" y="0"/>
            <a:ext cx="7467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ip = slip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981080"/>
            <a:ext cx="76960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p = stop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5410080"/>
            <a:ext cx="76201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all = small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3520" y="3657600"/>
            <a:ext cx="7772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ack = stac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9144000" cy="65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Stan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and Slim got a new </a:t>
            </a: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sle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y </a:t>
            </a: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slid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down a </a:t>
            </a: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small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hill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n they sped down a </a:t>
            </a: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slick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ill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“</a:t>
            </a: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Stop!”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said </a:t>
            </a: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Sta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sled slid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 a </a:t>
            </a: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stop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is </a:t>
            </a: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sled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is fast!” said Slim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29200" y="0"/>
            <a:ext cx="411480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Garamond"/>
              </a:rPr>
              <a:t>Objective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Garamond"/>
              </a:rPr>
              <a:t>To use /th/ and other known letter-sounds to spell and write word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09480" y="838080"/>
            <a:ext cx="7925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UILD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30481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1828800"/>
            <a:ext cx="8076960" cy="64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  </a:t>
            </a: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th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e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p      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a </a:t>
            </a: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     </a:t>
            </a: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  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path </a:t>
            </a: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th</a:t>
            </a: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      a       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t</a:t>
            </a: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   </a:t>
            </a: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that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Garamond"/>
              </a:rPr>
              <a:t>      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3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9" dur="2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20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685800"/>
            <a:ext cx="8305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pelling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676520"/>
            <a:ext cx="3124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28600" y="2590920"/>
            <a:ext cx="2819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m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28600" y="3581280"/>
            <a:ext cx="2743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i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4572000"/>
            <a:ext cx="25905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a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28600" y="5638680"/>
            <a:ext cx="2666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th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095880" y="1600200"/>
            <a:ext cx="2743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ith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400800" y="2590920"/>
            <a:ext cx="23623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e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629400" y="5715000"/>
            <a:ext cx="2209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e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477120" y="3581280"/>
            <a:ext cx="2209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ai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629400" y="4572000"/>
            <a:ext cx="2057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a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2286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Objective: To spell and write known high frequency wo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2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57200" y="609480"/>
            <a:ext cx="8229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IGH FREQUENCY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3105000"/>
            <a:ext cx="2819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on'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86200" y="3105000"/>
            <a:ext cx="2133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629400" y="3105000"/>
            <a:ext cx="25146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in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4495680"/>
            <a:ext cx="228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r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705720" y="4419720"/>
            <a:ext cx="2438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ew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09880" y="4495680"/>
            <a:ext cx="1981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ay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05320" y="579132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at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2286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Objective: To read high frequency w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791320" y="0"/>
            <a:ext cx="3352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Objective: To listen attentively and respond appropriately to oral communication; to share prior knowled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920" y="1600200"/>
            <a:ext cx="85341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stion of the 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2971800"/>
            <a:ext cx="83818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You know a seed grows.  What is something else that grow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A ____________ starts as a______and grows into a _________________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533520" y="304920"/>
            <a:ext cx="8381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IGH FREQUENCY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52280" y="2209680"/>
            <a:ext cx="8991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"I don't like that job," says Beth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843200" y="3105000"/>
            <a:ext cx="54576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Jeff is the line leader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3962520"/>
            <a:ext cx="9144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"You can water the plant," said Mr. Hall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619280" y="5029200"/>
            <a:ext cx="5905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ax has a new job, too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433520" y="6095880"/>
            <a:ext cx="6276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eth likes her job at last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533520"/>
            <a:ext cx="8915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380880"/>
            <a:ext cx="8305560" cy="61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Garamond"/>
              </a:rPr>
              <a:t>Concepts of Print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Garamond"/>
              </a:rPr>
              <a:t>The words below a picture tells about what is in a picture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Garamond"/>
              </a:rPr>
              <a:t>These words are called a cap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562720" cy="40384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514600" y="59436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Halloween Ow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086600" cy="36576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600200" y="56386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Cupcake Spi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8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6933960" cy="41907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057400" y="5715000"/>
            <a:ext cx="4952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A Mean Old Wi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5562720" cy="40388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752480" y="5943600"/>
            <a:ext cx="5639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cary jack-o-lanter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5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066680" y="838080"/>
            <a:ext cx="73915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etail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297180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Details are bits of information that tell more about something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30520" y="228600"/>
            <a:ext cx="56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Objective: To recognize details while listening to a stor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7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380880"/>
            <a:ext cx="82296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00"/>
                </a:solidFill>
                <a:latin typeface="Garamond"/>
              </a:rPr>
              <a:t>Tell me some details that you remember about the plant in </a:t>
            </a:r>
            <a:r>
              <a:rPr b="1" lang="en-US" sz="8000" spc="-1" strike="noStrike" u="sng">
                <a:solidFill>
                  <a:srgbClr val="00ff00"/>
                </a:solidFill>
                <a:uFillTx/>
                <a:latin typeface="Garamond"/>
              </a:rPr>
              <a:t>Beth’s Job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533520" y="380880"/>
            <a:ext cx="8305560" cy="337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unting on the Woo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5562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33520" y="914400"/>
            <a:ext cx="556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Garamond"/>
              </a:rPr>
              <a:t>What kinds of things does the author count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3657600"/>
            <a:ext cx="533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Garamond"/>
              </a:rPr>
              <a:t>things found in the woods, birds, bugs, n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1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6705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5800" y="1143000"/>
            <a:ext cx="71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00"/>
                </a:solidFill>
                <a:latin typeface="Garamond"/>
              </a:rPr>
              <a:t>How do trees help us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480060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Garamond"/>
              </a:rPr>
              <a:t>They clean the air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785520" y="320040"/>
            <a:ext cx="7419600" cy="5175360"/>
            <a:chOff x="785520" y="320040"/>
            <a:chExt cx="7419600" cy="5175360"/>
          </a:xfrm>
        </p:grpSpPr>
        <p:sp>
          <p:nvSpPr>
            <p:cNvPr id="191" name="_s59404"/>
            <p:cNvSpPr/>
            <p:nvPr/>
          </p:nvSpPr>
          <p:spPr>
            <a:xfrm flipH="1">
              <a:off x="2709000" y="3900960"/>
              <a:ext cx="889560" cy="399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_s59403"/>
            <p:cNvSpPr/>
            <p:nvPr/>
          </p:nvSpPr>
          <p:spPr>
            <a:xfrm>
              <a:off x="785520" y="3903120"/>
              <a:ext cx="2062800" cy="159228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Garamond"/>
                </a:rPr>
                <a:t>Live in the mos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_s59402"/>
            <p:cNvSpPr/>
            <p:nvPr/>
          </p:nvSpPr>
          <p:spPr>
            <a:xfrm>
              <a:off x="5387760" y="3903120"/>
              <a:ext cx="893160" cy="395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_s59401"/>
            <p:cNvSpPr/>
            <p:nvPr/>
          </p:nvSpPr>
          <p:spPr>
            <a:xfrm>
              <a:off x="6142320" y="3900960"/>
              <a:ext cx="2062800" cy="159228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Garamond"/>
                </a:rPr>
                <a:t>One has pincher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_s59400"/>
            <p:cNvSpPr/>
            <p:nvPr/>
          </p:nvSpPr>
          <p:spPr>
            <a:xfrm flipV="1">
              <a:off x="4495320" y="1911960"/>
              <a:ext cx="0" cy="795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_s59399"/>
            <p:cNvSpPr/>
            <p:nvPr/>
          </p:nvSpPr>
          <p:spPr>
            <a:xfrm>
              <a:off x="3463920" y="320040"/>
              <a:ext cx="2062800" cy="159228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Garamond"/>
                </a:rPr>
                <a:t>Hard shell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_s59398"/>
            <p:cNvSpPr/>
            <p:nvPr/>
          </p:nvSpPr>
          <p:spPr>
            <a:xfrm>
              <a:off x="3463920" y="2708640"/>
              <a:ext cx="2062800" cy="159228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Garamond"/>
                </a:rPr>
                <a:t>Three bug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553080" y="304920"/>
            <a:ext cx="259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Garamond"/>
              </a:rPr>
              <a:t>Objective: To review robust vocabulary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09480" y="2286000"/>
            <a:ext cx="80773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obust Vocabular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04920" y="1752480"/>
            <a:ext cx="838188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uty - a job you have to do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143000" y="304920"/>
            <a:ext cx="7620120" cy="10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00"/>
                </a:solidFill>
                <a:latin typeface="Garamond"/>
              </a:rPr>
              <a:t>I will say some things people do.  </a:t>
            </a:r>
            <a:r>
              <a:rPr b="1" i="1" lang="en-US" sz="6000" spc="-1" strike="noStrike">
                <a:solidFill>
                  <a:srgbClr val="00ff00"/>
                </a:solidFill>
                <a:latin typeface="Garamond"/>
              </a:rPr>
              <a:t> </a:t>
            </a:r>
            <a:r>
              <a:rPr b="1" lang="en-US" sz="6000" spc="-1" strike="noStrike">
                <a:solidFill>
                  <a:srgbClr val="00ff00"/>
                </a:solidFill>
                <a:latin typeface="Garamond"/>
              </a:rPr>
              <a:t>If you think it is a duty, or a job, raise your hand.  If it is not a duty then do nothing at all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7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304920"/>
            <a:ext cx="6219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ating ice cream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880" y="1447920"/>
            <a:ext cx="6415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utting away toy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80880" y="2438280"/>
            <a:ext cx="6477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nging a so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28600" y="5867280"/>
            <a:ext cx="7039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ashing the window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4876920"/>
            <a:ext cx="6319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weeping a room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0880" y="3733920"/>
            <a:ext cx="6172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iding a bik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685800"/>
            <a:ext cx="77724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nv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28600" y="3886200"/>
            <a:ext cx="8686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anting something someone else has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57200" y="685800"/>
            <a:ext cx="7924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Listen to the words I am going to say.  Nod your head if you would feel envy if someone had these things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8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04920" y="0"/>
            <a:ext cx="4952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 new bicycl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28600" y="685800"/>
            <a:ext cx="5486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 broken to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28600" y="1523880"/>
            <a:ext cx="6319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 trip to the zo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28600" y="2362320"/>
            <a:ext cx="6272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 broken pencil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28600" y="3124080"/>
            <a:ext cx="6791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 old pair of sock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28600" y="4114800"/>
            <a:ext cx="6472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 shiny red appl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28600" y="4800600"/>
            <a:ext cx="53341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 new to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5410080"/>
            <a:ext cx="65865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 day at the beach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685800" y="838080"/>
            <a:ext cx="73915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sen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358128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You might resent someone if you feel that that person is being treated better, or more fairly, than you ar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6933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43000" y="304920"/>
            <a:ext cx="670572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Garamond"/>
              </a:rPr>
              <a:t>Imagine that someone did the following things.  If you would resent that person for doing the activity clap once.  If you would not resent that person do nothing at all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9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04920" y="6019920"/>
            <a:ext cx="6762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ok the last cooki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0"/>
            <a:ext cx="7238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ad with you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0880" y="838080"/>
            <a:ext cx="7162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anked you for help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0880" y="1676520"/>
            <a:ext cx="7239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ft you out of a gam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5181480"/>
            <a:ext cx="6553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hared a to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514600"/>
            <a:ext cx="6891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ok your place in lin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4343400"/>
            <a:ext cx="6457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sked you to pl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3429000"/>
            <a:ext cx="62816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ave you a snac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762120" y="1676520"/>
            <a:ext cx="74674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ou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304920"/>
            <a:ext cx="7010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Garamond"/>
              </a:rPr>
              <a:t>Objective: To identify nouns that name people or plac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Garamond"/>
              </a:rPr>
              <a:t>To use nouns that name people or places in sentenc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762120" y="685800"/>
            <a:ext cx="8001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Garamond"/>
              </a:rPr>
              <a:t>Nouns are a person, place, or thing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5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152280"/>
            <a:ext cx="79246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y dad went to a farm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123920" y="1447920"/>
            <a:ext cx="6896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y mom jogged to the mall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981080" y="2743200"/>
            <a:ext cx="5562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d went home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395440" y="3809880"/>
            <a:ext cx="4353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eth is at school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715000" y="228600"/>
            <a:ext cx="3276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Objective: To select a focus when wri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To write complete, coherent ques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2133720"/>
            <a:ext cx="72388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stio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09480" y="838080"/>
            <a:ext cx="822960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ff00"/>
                </a:solidFill>
                <a:latin typeface="Garamond"/>
              </a:rPr>
              <a:t>Question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Garamond"/>
              </a:rPr>
              <a:t>The sentences ask for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Garamond"/>
              </a:rPr>
              <a:t>They often begin with words like who, what, when, where, why, or h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Garamond"/>
              </a:rPr>
              <a:t>They begin with a capital letter and end with a question ma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2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2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2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2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2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2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762120" y="762120"/>
            <a:ext cx="7619760" cy="299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hyming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562720" y="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Objective: To appreciate the rhythm and rhyme of a poem; to recite a contemporary po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1371600"/>
            <a:ext cx="7848360" cy="68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There’s Something About 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There’s something about me That I’m knowing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There’s something about m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That isn’t showing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I’m growing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438280" y="762120"/>
            <a:ext cx="464832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know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how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row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09480" y="304920"/>
            <a:ext cx="7925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1066680"/>
            <a:ext cx="81536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on’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h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i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an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n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a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w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4784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Objective – to read high frequency wo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2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20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28600" y="152280"/>
            <a:ext cx="8686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honeme blend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16002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    e    s    t - b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22860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   n   a   p -sna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895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  o  th - mo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36576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f  ur  s  t - fir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457200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  a  th - p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54864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  l  e  p - slee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16002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  l  e  d - sl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209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  p  e  n  t - sp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81480" y="288756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  w  e  t - sw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838080"/>
            <a:ext cx="73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Objective: To blend phonemes into recognizable wo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7:58:45Z</dcterms:created>
  <dc:creator>Valued Gateway Client</dc:creator>
  <dc:description/>
  <dc:language>en-US</dc:language>
  <cp:lastModifiedBy>Valued Gateway Client</cp:lastModifiedBy>
  <dcterms:modified xsi:type="dcterms:W3CDTF">2008-10-23T01:29:22Z</dcterms:modified>
  <cp:revision>8</cp:revision>
  <dc:subject/>
  <dc:title>Slide 1</dc:title>
</cp:coreProperties>
</file>