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623-2B97-4571-A96A-EF584506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A47-D7FA-4788-8938-8C46565C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EB1-92AB-4F73-9CF0-90D5CB19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CA2-E088-4D1F-9632-C18657AB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364-8516-4F12-A8B2-4F97761B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D09-0347-4AB1-AFB4-3EE1264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79B-98C0-4E5B-B44B-E4211F2B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713-0D65-4C71-AD6C-8DCD3451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5C1-505C-488E-885C-824E51A0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F59-37EC-46CC-9D57-5B3CB87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1C1-84CB-4765-BD23-C6FAD4E2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F3E-69E3-42E8-8700-7D399D7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EF6B-E42B-41AC-84B6-C28436D6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27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4724280"/>
            <a:ext cx="6324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Garamond"/>
              </a:rPr>
              <a:t>Frida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Garamond"/>
              </a:rPr>
              <a:t>Lesson 8 Day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920" y="266688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ital Blends with 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8088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To recognize initial blends with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To form words with initial blends with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114800" y="0"/>
            <a:ext cx="108576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228600"/>
            <a:ext cx="861084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ed = s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in = s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kid = sk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ick = s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ap = s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ap = s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ots =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ips = s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ick =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24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7652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25909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3581280"/>
            <a:ext cx="2743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457200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588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00800" y="2590920"/>
            <a:ext cx="23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29400" y="57150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77120" y="35812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29400" y="45720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5335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522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2096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066680"/>
            <a:ext cx="8458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66680" y="8380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ta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9718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Details are bits of information that tell more about someth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30520" y="228600"/>
            <a:ext cx="56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recognize details while listening to a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8080"/>
            <a:ext cx="868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305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la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52280"/>
            <a:ext cx="8839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f someone tried to gather all the toys, would you resent that?  Yes or 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When might someone be applauded for doing his or her dut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ould you envy someone who was chatty? 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6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1676520"/>
            <a:ext cx="7467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049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Objective: To identify nouns that name people or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To use nouns that name people or places i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914400"/>
            <a:ext cx="8153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68580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Garamond"/>
              </a:rPr>
              <a:t>Nouns are a person, place, or thing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582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t’s see if we can find the nouns in the following sent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The girl sat on the w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The man ran to the ca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Jog to the pond with my m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15000" y="2286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To write complete, coherent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14400" y="2133720"/>
            <a:ext cx="7238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8380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 sentences ask for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often begin with words like who, what, when, where, why, or 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begin with a capital letter and end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53416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What can you do now that you could not do when you were small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Now that I am bigger, I can 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666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Today we are going to reread the poem “I’m Growing.” I will read it on the first time.  On the second time I want us all to choral read the poem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a poem for enjoyment and information; to respond to a poem through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8483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 That I’m know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at isn’t show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I’m grow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0"/>
            <a:ext cx="792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85800"/>
            <a:ext cx="81536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on’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7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 –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Arial"/>
              </a:rPr>
              <a:t>Phonem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Arial"/>
              </a:rPr>
              <a:t>Blendin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144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am going to say some words very slowly.  I will say all the sounds I hear and then I will put them together to make a word. I will do the first one and then you will join me on the second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0"/>
            <a:ext cx="86104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e/ /l/  = s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l/ /e/ /d/ = s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k/ /i/ /p/ = 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i/ /n/ = s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t/ /a/ /k/ =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e/ /k/ =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n/ /a/ /p/ = 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w/ /e/ /l/ = s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t/ /e/ /p/ =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k/ /a/ /t/ = s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l/ /i/ /p/ =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o/ /t/ =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2:33:26Z</dcterms:created>
  <dc:creator>Valued Gateway Client</dc:creator>
  <dc:description/>
  <dc:language>en-US</dc:language>
  <cp:lastModifiedBy>Valued Gateway Client</cp:lastModifiedBy>
  <dcterms:modified xsi:type="dcterms:W3CDTF">2009-10-21T02:33:40Z</dcterms:modified>
  <cp:revision>1</cp:revision>
  <dc:subject/>
  <dc:title>Slide 1</dc:title>
</cp:coreProperties>
</file>