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FEC-BE94-4165-8F67-B32AEE01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FD5-585B-4199-85A6-1BD8AB43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79F-47AB-4037-B4C8-F5FE3E0D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ADA-A3A2-424A-BE8B-0218F5CC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BFD-57C8-4C04-8463-2353792D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4AF-D939-4079-9EFB-CA91B68A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904-554F-4263-A161-1DF11DF0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727-716D-4A3D-A3C6-20D17FB6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8C2-B852-49CD-978E-7BD4D44C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87A-EF35-41A5-955A-2B9554BE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317-4976-4CB4-AE7A-ED24ED2C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5FC-C89A-46C0-8574-08FAE8AE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A7CA-6C2A-4FF1-9C2F-E7EF7181E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648320" cy="2757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4724280"/>
            <a:ext cx="6324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Garamond"/>
              </a:rPr>
              <a:t>Frida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Garamond"/>
              </a:rPr>
              <a:t>Lesson 8 Day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4920" y="266688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ital Blends with 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80880"/>
            <a:ext cx="685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Garamond"/>
              </a:rPr>
              <a:t>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Garamond"/>
              </a:rPr>
              <a:t>To recognize initial blends with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Garamond"/>
              </a:rPr>
              <a:t>To form words with initial blends with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114800" y="0"/>
            <a:ext cx="108576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i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28600"/>
            <a:ext cx="8686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Garamond"/>
              </a:rPr>
              <a:t>Let’s see what happens when we add an s to the beginning of each wo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228600"/>
            <a:ext cx="861084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led = s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in = s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kid = sk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lick = s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nap = sn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lap = s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ots = s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lips = s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tick = 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8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8580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67652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2590920"/>
            <a:ext cx="2819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3581280"/>
            <a:ext cx="2743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i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4572000"/>
            <a:ext cx="2590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5638680"/>
            <a:ext cx="2666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5880" y="160020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00800" y="2590920"/>
            <a:ext cx="2362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629400" y="57150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477120" y="3581280"/>
            <a:ext cx="220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i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29400" y="4572000"/>
            <a:ext cx="2057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28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aramond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533520"/>
            <a:ext cx="868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1522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2096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066680"/>
            <a:ext cx="84582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4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066680" y="838080"/>
            <a:ext cx="7391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tai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97180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Details are bits of information that tell more about someth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30520" y="228600"/>
            <a:ext cx="56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aramond"/>
              </a:rPr>
              <a:t>Objective: To recognize details while listening to a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view robust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838080"/>
            <a:ext cx="8686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828800"/>
            <a:ext cx="83059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la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n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3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1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152280"/>
            <a:ext cx="883944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f someone tried to gather all the toys, would you resent that?  Yes or N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When might someone be applauded for doing his or her duty? 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Would you envy someone who was chatty? Why or why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2120" y="1676520"/>
            <a:ext cx="74674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u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30492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Objective: To identify nouns that name people or pl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To use nouns that name people or places in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914400"/>
            <a:ext cx="815364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685800"/>
            <a:ext cx="8001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Garamond"/>
              </a:rPr>
              <a:t>Nouns are a person, place, or thing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45820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et’s see if we can find the nouns in the following senten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The girl sat on the w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The man ran to the cam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Jog to the pond with my mo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4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15000" y="228600"/>
            <a:ext cx="32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aramond"/>
              </a:rPr>
              <a:t>Objective: To select a focus when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aramond"/>
              </a:rPr>
              <a:t>To write complete, coherent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14400" y="2133720"/>
            <a:ext cx="72388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838080"/>
            <a:ext cx="82296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Garamond"/>
              </a:rPr>
              <a:t>Ques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 sentences ask for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y often begin with words like who, what, when, where, why, or 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y begin with a capital letter and end with a ques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2280"/>
            <a:ext cx="853416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What can you do now that you could not do when you were small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n my signal, you will turn and talk with your partner to complete the following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Now that I am bigger, I can 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66680"/>
            <a:ext cx="84582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Today we are going to reread the poem “I’m Growing.” I will read it on the first time.  On the second time I want us all to choral read the poem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04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ad a poem for enjoyment and information; to respond to a poem through m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371600"/>
            <a:ext cx="784836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aramond"/>
              </a:rPr>
              <a:t>There’s Something 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aramond"/>
              </a:rPr>
              <a:t>There’s something about me That I’m know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aramond"/>
              </a:rPr>
              <a:t>There’s something about 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aramond"/>
              </a:rPr>
              <a:t>That isn’t show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aramond"/>
              </a:rPr>
              <a:t>I’m grow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0"/>
            <a:ext cx="7925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85800"/>
            <a:ext cx="815364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on’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78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aramond"/>
              </a:rPr>
              <a:t>Objective –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2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2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2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2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Arial"/>
              </a:rPr>
              <a:t>Phonem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Arial"/>
              </a:rPr>
              <a:t>Blendin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52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Objective: To blend phonemes into recognizabl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9144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am going to say some words very slowly.  I will say all the sounds I hear and then I will put them together to make a word. I will do the first one and then you will join me on the second w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0"/>
            <a:ext cx="861048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p/ /e/ /l/  = sp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l/ /e/ /d/ = s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k/ /i/ /p/ = sk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p/ /i/ /n/ = s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t/ /a/ /k/ =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p/ /e/ /k/ =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n/ /a/ /p/ = s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w/ /e/ /l/ = s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t/ /e/ /p/ =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k/ /a/ /t/ = s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l/ /i/ /p/ =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p/ /o/ /t/ =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2:33:26Z</dcterms:created>
  <dc:creator>Valued Gateway Client</dc:creator>
  <dc:description/>
  <dc:language>en-US</dc:language>
  <cp:lastModifiedBy>Valued Gateway Client</cp:lastModifiedBy>
  <dcterms:modified xsi:type="dcterms:W3CDTF">2009-10-21T02:33:40Z</dcterms:modified>
  <cp:revision>1</cp:revision>
  <dc:subject/>
  <dc:title>Slide 1</dc:title>
</cp:coreProperties>
</file>