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1B24-013A-4B3C-8A83-5B7EBFF2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E871-021C-464E-8E63-804ECF42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85B4-C477-4D59-A5ED-D05E3867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14D8-1816-465C-8626-D09F3A0D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7FB9-C7FD-4B90-AD6A-3909E1CF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747-13E5-4A3D-9296-213FFE3C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F348-B130-4212-A53E-0D8E88FF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0AA1-CB8F-4ACD-A2DE-FD1A713C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770C-04E2-4604-A4C9-E5CA3F82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EA8-587E-42B2-A47A-6AA492D7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15B-5914-4B6E-AAAB-BE9F07A3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A563-7F3E-458C-B198-EA266C68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516D-6925-4B1E-B7E6-DE0C17667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27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9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914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16765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541008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11430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2286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586728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6095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952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5053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8534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ose Garden Is It?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049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47920" y="2787480"/>
            <a:ext cx="609588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i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a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84160" y="339840"/>
            <a:ext cx="378468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im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40320" y="1714680"/>
            <a:ext cx="255456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1" lang="en-US" sz="3800" spc="-1" strike="noStrike">
                <a:solidFill>
                  <a:srgbClr val="bbe0e3"/>
                </a:solidFill>
                <a:latin typeface="Comic Sans MS"/>
              </a:rPr>
              <a:t>claimed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 something, you say it is you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54040" y="1714680"/>
            <a:ext cx="3300480" cy="4929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26000" y="1593720"/>
            <a:ext cx="4232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aying that you dine is a fancy way of talking about eat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43120" y="26820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in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197080"/>
            <a:ext cx="4786200" cy="318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0" y="1785600"/>
            <a:ext cx="39114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erson who groans makes a deep sound that shows unhapp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04920"/>
            <a:ext cx="359064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457200"/>
            <a:ext cx="33829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roan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74800" y="1982880"/>
            <a:ext cx="417996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67120" y="228240"/>
            <a:ext cx="1676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 that name animals or th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oads and the turtles, the squirrels and hares, the chipmunks and crickets – all claimed it was thei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gobble each bud and each leaf and each vin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522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43440" y="0"/>
            <a:ext cx="160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 that name animals or th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22860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at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sit on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rock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do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fell in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mu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bugs have you seen?  What were they doing when you saw the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ne bug I saw was a _____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t was _________ when I saw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772400" y="0"/>
            <a:ext cx="1371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 that name animals or th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32040" y="0"/>
            <a:ext cx="587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315200" y="1522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2568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s are usually words, not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hings on the list are alike in some 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s are often number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ost important things are often first on the l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ontribute ideas to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a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ontribute ideas to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ake a list of foods that you like.  Think of a title for your lis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ontribute ideas to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Ugh! A Bu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s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8163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short vowel /u/ u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hort Vowel /u/ 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914400"/>
            <a:ext cx="46483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 say a word that begins with /u/, you  hold up your thumb in front of your chest.  When I say a word that does not begin with /u/, put your thumb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 say a word with /u/ in the middle, you hold you your thumb in front of your chest.  When I say a word that does not have /u/ in the middle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1148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7760" y="1218960"/>
            <a:ext cx="99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u/ u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u/ u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685800"/>
            <a:ext cx="525780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u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u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3:59:55Z</dcterms:modified>
  <cp:revision>63</cp:revision>
  <dc:subject/>
  <dc:title>Slide 1</dc:title>
</cp:coreProperties>
</file>