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127-3420-4389-8D28-BB0539F8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0A-3B99-4848-8AA6-242407F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22E-C4DA-4FDF-8EBF-3D9CE4ED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6F9-C145-4C14-AD35-BEBAD640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062-C7FA-4A96-B499-683820E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008-ABE0-46B7-A42F-9B3C3C6E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090-FF6B-43F9-81CA-1F2C883E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603-E17F-4201-B30E-6BD22BE0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619-9D6A-48F0-8F05-1E504AD7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31E-1ACE-4EA7-A98B-E03EEEC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740-DA86-4452-A5FE-3EBF3BB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38E-D8C7-403B-9C22-9A0C48FA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6B92-8EB8-4C14-837F-2B2B8D29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ose Garden Is It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bble each bud and each leaf and each vi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t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it o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ock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o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fell i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u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bugs have you seen?  What were they doing when you saw th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 bug I saw was a __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was _________ when I sa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8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ke a list of foods that you like.  Think of a title for your li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u/ 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648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u/, you  hold up your thumb in front of your chest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with /u/ in the middle, you hold you your thumb in front of your chest.  When I say a word that does not have /u/ in the middle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/ 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68580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9:55Z</dcterms:modified>
  <cp:revision>63</cp:revision>
  <dc:subject/>
  <dc:title>Slide 1</dc:title>
</cp:coreProperties>
</file>