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B57-6861-40F9-A524-0A813D1D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CA1-798E-4E97-B4E3-CBA3A9C7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57A-EE47-4A5B-9323-F31D07EB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F75-0D21-4E07-A7F5-24951AEC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411-1E02-43AD-8B04-008C839E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BED-2C97-429E-8C8C-FB468020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F79-A986-41A1-8763-DD2D396C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305-6F15-471E-A9B2-D30D62E3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5ED-5306-4D58-A086-866EF78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435-0AA6-4254-834E-C1CBC0C0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8DC-5FAF-4E73-A2E3-5EC1242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E1A-F9C5-45B8-AD94-144C2445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C844-3B6F-4F55-BCE3-F385706B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9, Day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680" y="228600"/>
            <a:ext cx="914868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i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1" lang="en-US" sz="3800" spc="-1" strike="noStrike">
                <a:solidFill>
                  <a:srgbClr val="bbe0e3"/>
                </a:solidFill>
                <a:latin typeface="Comic Sans MS"/>
              </a:rPr>
              <a:t>clai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something, you say it is you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4040" y="1714680"/>
            <a:ext cx="330048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omeone ev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 of you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say when you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ying that you dine is a fancy way of talking about ea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478620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do you usuall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at is your favorite thing to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 yo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d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t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erson who groans makes a deep sound that shows unhapp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oan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74800" y="198288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something that makes you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you ever heard a friend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Why did he or sh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something that could happen in school that might make you want t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lants Can’t Jum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12501" t="29168" r="14063" b="18750"/>
          <a:stretch/>
        </p:blipFill>
        <p:spPr>
          <a:xfrm>
            <a:off x="1066680" y="2286000"/>
            <a:ext cx="716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re the seasons of the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each season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rite season is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cause it is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11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looked for the  ___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ke a list of plants that you think are interesting.  Think of a title for your lis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utum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6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4479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200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200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562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4800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3962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5562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5562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5562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d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 on the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bus with 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u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plum so we can ea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u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aps with its mom, and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s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hit the ball with that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lu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ine,” groaned the mole.  “It is full of furrow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ine,” squealed the vole.  “See my bumps and my burrow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ads and the turtles, the squirrels and hares, the chipmunks and crickets – all claimed it was thei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ell us more about something. 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about the garden, details tell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are there, such as moles, vo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ads, and turtles.  Details also tell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ights, sounds, and smells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den.  The details give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garden, such as how the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aned and squealed when they spok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0-25T19:16:53Z</dcterms:modified>
  <cp:revision>66</cp:revision>
  <dc:subject/>
  <dc:title>Slide 1</dc:title>
</cp:coreProperties>
</file>