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E01-9321-4C9B-B076-9E18D260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C59-77A1-4A57-879E-2CE3FF94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7DB-B2EB-4169-9267-BA00CC3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A5F-71C6-44C5-9177-F8E31E12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6AF-9EE2-4A1B-8EE0-6821EE6C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EE1-157E-4F9F-B9C4-A95D398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8C37-CE7D-4F92-B8E9-D3CAE4D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2D3-3090-4EEF-A706-CD9968B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D93-41A4-4045-9D5A-3F11511C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112-F5A5-437E-8A0E-E7167165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E66-6E10-49B8-8DDA-0F1D601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469-6C2A-46C3-A607-90198D6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9ACD-80D4-49B8-817F-57D13EB1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9, Day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680" y="228600"/>
            <a:ext cx="914868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i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clai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something, you say it is you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4040" y="1714680"/>
            <a:ext cx="33004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omeone ev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 of you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ay when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ying that you dine is a fancy way of talking about ea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47862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do you usual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at is your favorite thing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 who groans makes a deep sound that shows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oa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74800" y="19828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something that makes you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you ever heard a friend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Why did he or s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something that could happen in school that might make you want t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lants Can’t Jum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12501" t="29168" r="14063" b="18750"/>
          <a:stretch/>
        </p:blipFill>
        <p:spPr>
          <a:xfrm>
            <a:off x="1066680" y="228600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the seasons of th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each season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season is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cause it 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looked for the  ___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ke a list of plants that you think are interesting.  Think of a title for your lis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utum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447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3962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562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5562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on t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bus with 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lum so we can ea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u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aps with its mom, and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s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hit the ball with that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lu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ine,” groaned the mole.  “It is full of furrow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ine,” squealed the vole.  “See my bumps and my burrow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ads and the turtles, the squirrels and hares, the chipmunks and crickets – all claimed it was thei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ell us more about something. 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about the garden, details tell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are there, such as moles, vo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ds, and turtles.  Details also tell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ights, sounds, and smells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en.  The details give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garden, such as how th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aned and squealed when they spo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0-25T19:16:53Z</dcterms:modified>
  <cp:revision>66</cp:revision>
  <dc:subject/>
  <dc:title>Slide 1</dc:title>
</cp:coreProperties>
</file>