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9.jpeg" ContentType="image/jpeg"/>
  <Override PartName="/ppt/media/image11.jpeg" ContentType="image/jpeg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19B0-C1CE-4867-B2CC-7782DD39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1F82-C762-49FA-8668-87D27FC7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590-3072-46A1-84E9-1095EE70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4CA6-EAA0-4791-82BD-9BF3A821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F037-E406-41AA-B96F-C5BC0630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D80A-2442-466E-971E-6472BE38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0249-CC0D-4A02-97C7-B3C78F4E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AC20-F8AE-44E4-8D4F-E10E714B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90BA-E186-46BA-8179-6C506A5C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1589-009E-4E16-AC5E-9D9F0113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E6D5-CADD-4DF9-A2AE-E1CBA656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DE0C-D954-4E20-8DAE-F923296C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2BE3-85F6-4BC5-92B3-23CB7E26E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ctober 15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sson 9, Day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Century Gothic"/>
              </a:rPr>
              <a:t>Plants can’t jump, but they don’t fu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Century Gothic"/>
              </a:rPr>
              <a:t>Plants can grow, just like u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ails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its of information that tell more about something, such as how it looks, sounds, smells, tastes, feels, or a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mine!” the bird twittered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mine!” squeaked the squash bu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mine,” buzzed the honeybe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3520" y="1981080"/>
            <a:ext cx="8229600" cy="177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mall Groups/ Stations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bust 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assif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triti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you classify something, you put it into a group with other things like i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362320" y="609480"/>
            <a:ext cx="4647960" cy="110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entury Gothic"/>
              </a:rPr>
              <a:t>Classify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438156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hing’s function is its use. The function of a hat is to cover your hea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90920" y="762120"/>
            <a:ext cx="4038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entury Gothic"/>
              </a:rPr>
              <a:t>Functio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3276720"/>
            <a:ext cx="2743200" cy="1893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1905120" cy="1825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14400" y="53341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unction of a hat is to cover your hea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51055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unction of a leaf is to make food for the plan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omething is nutritious, it is healthful to ea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057400" y="685800"/>
            <a:ext cx="4952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entury Gothic"/>
              </a:rPr>
              <a:t>nutritious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447920" y="3429000"/>
            <a:ext cx="3022560" cy="2146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952880" y="3429000"/>
            <a:ext cx="320040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If some bugs want food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ey eat plan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Some plants eat bug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like moths and ant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nack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bug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d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t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m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123720" y="1980720"/>
            <a:ext cx="5334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like to eat the 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want a ________ as a p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_______ and I like to pl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Animal or Thing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cat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ham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fla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plum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fox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ba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wall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gum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des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hog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hen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ru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riting L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sts are organized in a certain w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an have a title that tells what the list is abou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is often numbered, and every item on the list has to do with the main idea of the list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entury Gothic"/>
              </a:rPr>
              <a:t>Question of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hat do you like to do outside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different seas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In summer, I like to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In winter, I like to 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In fall, I like to 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In spring, I like to _____________.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604800" cy="673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533520" cy="460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09480" y="5257800"/>
            <a:ext cx="544680" cy="614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33520" y="3429000"/>
            <a:ext cx="68580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st Boo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Think of books that you have r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recently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Turn and talk with your partn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about these boo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Make a list of the books that you read recently that you discussed with your partn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d Aloud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“</a:t>
            </a: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Autum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Leaves are floating softly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They make a carpet on the ground.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Then swish, the wind comes whistling b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And sends them dancing to the sk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29200" y="4800600"/>
            <a:ext cx="1808280" cy="1535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09680" y="4724280"/>
            <a:ext cx="1676520" cy="1619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477120" y="685800"/>
            <a:ext cx="1552320" cy="1339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066680" y="838080"/>
            <a:ext cx="155268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Word W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entury Gothic"/>
              </a:rPr>
              <a:t>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entury Gothic"/>
              </a:rPr>
              <a:t>d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entury Gothic"/>
              </a:rPr>
              <a:t>l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entury Gothic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entury Gothic"/>
              </a:rPr>
              <a:t>g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entury Gothic"/>
              </a:rPr>
              <a:t>m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entury Gothic"/>
              </a:rPr>
              <a:t>Phonemic Awar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entury Gothic"/>
              </a:rPr>
              <a:t>Tell me all the sounds in the word by holding up a finger for each soun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657600" y="3733920"/>
            <a:ext cx="17017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1447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1447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1447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3200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3200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32004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4191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91120" y="4191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41911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Short Vowel /u/ 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Jen and Ted run in the su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hey run on the san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hey run past she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Jen and Ted see a duc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hat sun is so hot!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hey run to the tent to re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u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u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t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don’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gh Frequency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entury Gothic"/>
              </a:rPr>
              <a:t>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entury Gothic"/>
              </a:rPr>
              <a:t>do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entury Gothic"/>
              </a:rPr>
              <a:t>f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entury Gothic"/>
              </a:rPr>
              <a:t>gr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entury Gothic"/>
              </a:rPr>
              <a:t>l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entury Gothic"/>
              </a:rPr>
              <a:t>m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02:57:57Z</dcterms:created>
  <dc:creator>Federated Group</dc:creator>
  <dc:description/>
  <dc:language>en-US</dc:language>
  <cp:lastModifiedBy>Carey Dailey</cp:lastModifiedBy>
  <dcterms:modified xsi:type="dcterms:W3CDTF">2008-11-22T04:01:07Z</dcterms:modified>
  <cp:revision>3</cp:revision>
  <dc:subject/>
  <dc:title>Question of the Day</dc:title>
</cp:coreProperties>
</file>