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A5A-A670-4541-99EE-33FC91BE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A5E-9D3C-4085-8599-F7A0EB1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D66-39AB-476F-B933-BC2FD212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5AA-CE93-48D0-B1FF-49D5DD14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13C-7464-4F1D-B3C7-E0E48E9E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EF5-8FA8-44F6-8E26-C7A0D17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487-1DCF-48A1-BE38-45D98DE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E11-5B43-4BFF-9E8E-E5AB6F8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156-03C9-4112-AFC5-E91C792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0C4-8F69-4FBC-B789-B98C6F5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A6F-8ACE-4C97-9EA8-E5811CA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374-F4D1-4E1B-A966-C73874D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DCF-8FD5-40B4-BB9D-18208EEB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3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143000"/>
          <a:ext cx="8229600" cy="4921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ut F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se Garden Is 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s Can’t 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gh! A Bug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2133720"/>
            <a:ext cx="3581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828440" y="15998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92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3600" y="13712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228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362320" y="38862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952880"/>
            <a:ext cx="259092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648320"/>
            <a:ext cx="2438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743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43200" y="2133720"/>
            <a:ext cx="3581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828440" y="15998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43600" y="13712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28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62320" y="38862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952880"/>
            <a:ext cx="259092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648320"/>
            <a:ext cx="2438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743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218960"/>
            <a:ext cx="2590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n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1219320"/>
            <a:ext cx="25905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256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usually words, not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ings on the list are alike in so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often numb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st important things are often first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ndrewScript"/>
              </a:rPr>
              <a:t>Happy Hallowee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772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-360"/>
            <a:ext cx="2057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some things you can dig fo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can dig for_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121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w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short vowel /u/ 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/r/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03848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182880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228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75248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838080"/>
            <a:ext cx="228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75248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3:39Z</dcterms:modified>
  <cp:revision>66</cp:revision>
  <dc:subject/>
  <dc:title>Slide 1</dc:title>
</cp:coreProperties>
</file>