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gif" ContentType="image/gif"/>
  <Override PartName="/ppt/media/image6.wmf" ContentType="image/x-wmf"/>
  <Override PartName="/ppt/media/image7.png" ContentType="image/png"/>
  <Override PartName="/ppt/media/image4.jpeg" ContentType="image/jpeg"/>
  <Override PartName="/ppt/media/image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AFFB8-DBAA-430C-ADC6-EA2BE2373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F1CAC-48E2-44DE-BB8D-3BA51CD32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45A9F-AB85-4FA5-B606-CDD268AC2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4B31D-DC72-4500-9EDD-F8A32D50B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C7411-D056-477F-8D26-39FD66EFB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022F4-9F63-4C81-81DF-13BFBBD5E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445E0-A096-4261-8DC7-08C03A35F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8AA74-EFB9-4C34-81D0-37D4B3ECC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BE6F2-32D4-4693-BA94-5F6A12E2B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0AA72-8228-4F90-B5F5-2F2B04359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A5B7E-8B9C-4441-B3AC-6C3F089FF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DF93D-9BD7-4C0E-B592-0870F4737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85A9D-9D5E-4041-8189-EAE15CA126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8305560" cy="65689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2209680" y="380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ri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ctober 31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esson 9, Day 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Words to Kn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620120" y="0"/>
            <a:ext cx="152388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read high-frequency words.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1" dur="5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6" dur="500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" dur="500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6" dur="500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1" dur="500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6" dur="500"/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1" dur="500"/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6" dur="500"/>
                                        <p:tgtEl>
                                          <p:spTgt spid="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1" dur="500"/>
                                        <p:tgtEl>
                                          <p:spTgt spid="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6" dur="500"/>
                                        <p:tgtEl>
                                          <p:spTgt spid="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1" dur="500"/>
                                        <p:tgtEl>
                                          <p:spTgt spid="6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6" dur="500"/>
                                        <p:tgtEl>
                                          <p:spTgt spid="6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tai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457200" y="1143000"/>
          <a:ext cx="8229600" cy="49212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Nut Fall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ose Garden Is It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nts Can’t Jum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Ugh! A Bug!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all Grou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called go to your first rotatio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up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up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up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20120" y="0"/>
            <a:ext cx="15238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use letter-sound knowledge to read decodable 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To develop fluenc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3" dur="20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8" dur="20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3" dur="2000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8" dur="2000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400440" y="152280"/>
            <a:ext cx="2514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develop robust vocabulary by discussing ideas and situatio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837720"/>
            <a:ext cx="838188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Robust Vocabula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aimed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oa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tritio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assif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743200" y="2133720"/>
            <a:ext cx="3581280" cy="1981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 flipV="1">
            <a:off x="1828440" y="1599840"/>
            <a:ext cx="106668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57200" y="304920"/>
            <a:ext cx="2743200" cy="1295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5943600" y="1371240"/>
            <a:ext cx="106668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95880" y="228600"/>
            <a:ext cx="2590920" cy="1143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2362320" y="3886200"/>
            <a:ext cx="8380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715000" y="3886200"/>
            <a:ext cx="7621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09480" y="4952880"/>
            <a:ext cx="2590920" cy="15242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867280" y="4648320"/>
            <a:ext cx="2438640" cy="1523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74320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utritio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743200" y="2133720"/>
            <a:ext cx="3581280" cy="1981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 flipV="1">
            <a:off x="1828440" y="1599840"/>
            <a:ext cx="106668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57200" y="304920"/>
            <a:ext cx="2743200" cy="1295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5943600" y="1371240"/>
            <a:ext cx="106668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95880" y="228600"/>
            <a:ext cx="2590920" cy="1143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2362320" y="3886200"/>
            <a:ext cx="8380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715000" y="3886200"/>
            <a:ext cx="7621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09480" y="4952880"/>
            <a:ext cx="2590920" cy="15242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867280" y="4648320"/>
            <a:ext cx="2438640" cy="1523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048120" y="274320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467120" y="228240"/>
            <a:ext cx="1676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identify nouns that name animals or thing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676520" y="1218960"/>
            <a:ext cx="259056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ru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na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u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ro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la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o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057400" y="152280"/>
            <a:ext cx="4495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Nou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876920" y="1219320"/>
            <a:ext cx="259056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ti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o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hi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a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i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re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u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7315200" y="152280"/>
            <a:ext cx="18288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understand that questions are a kind of sentence that be used to find out inform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425680" y="0"/>
            <a:ext cx="4599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Lis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ists are usually words, not sentenc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things on the list are alike in some wa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ists are often numbered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most important things are often first on the lis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553080" y="152280"/>
            <a:ext cx="2590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contribute ideas to lis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209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0" spc="-1" strike="noStrike">
                <a:solidFill>
                  <a:srgbClr val="000000"/>
                </a:solidFill>
                <a:latin typeface="AndrewScript"/>
              </a:rPr>
              <a:t>Happy Halloween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85800" y="4267080"/>
            <a:ext cx="7772400" cy="233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086240" y="-360"/>
            <a:ext cx="20574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listen and respond appropriately to oral communication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5181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Question of the 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What are some things you can dig for?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I can dig for___________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638680" y="1828800"/>
            <a:ext cx="312120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238880" y="-360"/>
            <a:ext cx="190512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develop the ability to listen for a purpos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744480" y="1600200"/>
            <a:ext cx="3462480" cy="45259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495680" y="2133720"/>
            <a:ext cx="381024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ad Aloud –             “I Dig, Dig, Dig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467120" y="-360"/>
            <a:ext cx="16765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 - To read high frequency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520" y="22824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Word Wall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on’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oo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ay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row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ive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ny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" dur="2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" dur="20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" dur="20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" dur="20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" dur="2000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7" dur="2000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" dur="2000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238880" y="0"/>
            <a:ext cx="190512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segment phonemes in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457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Phonemic Awarenes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honeme Segment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666880" y="3200400"/>
            <a:ext cx="3816360" cy="322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6781680" y="0"/>
            <a:ext cx="2362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recognize and generate the  sound of short vowel /u/ u.</a:t>
            </a: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65040" y="417600"/>
            <a:ext cx="8550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228600"/>
            <a:ext cx="8458200" cy="17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Initial Blends with /r/ 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0" y="1828800"/>
            <a:ext cx="2286000" cy="37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an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ack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i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362320" y="1752480"/>
            <a:ext cx="4038480" cy="399276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6400800" y="1828800"/>
            <a:ext cx="2286000" cy="37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ran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rack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ri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838080"/>
            <a:ext cx="2286000" cy="518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a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i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uck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i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1752480"/>
            <a:ext cx="2286000" cy="37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a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fo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a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057400" y="838080"/>
            <a:ext cx="2286000" cy="518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ra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ri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ruck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ri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629400" y="1752480"/>
            <a:ext cx="2286000" cy="37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ra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fro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ra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pelling Word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When called go to your seat and label the paper with your name and date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It’s time to take our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pelling test!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467480" y="0"/>
            <a:ext cx="16765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spell spelling words and high frequency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3T01:35:05Z</dcterms:created>
  <dc:creator>Carey Dailey</dc:creator>
  <dc:description/>
  <dc:language>en-US</dc:language>
  <cp:lastModifiedBy>Carey Dailey</cp:lastModifiedBy>
  <dcterms:modified xsi:type="dcterms:W3CDTF">2008-11-22T04:03:39Z</dcterms:modified>
  <cp:revision>66</cp:revision>
  <dc:subject/>
  <dc:title>Slide 1</dc:title>
</cp:coreProperties>
</file>