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EBF0-C17E-4DC4-8DDE-BC5E1C994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7834-A350-42F7-8470-8A5CEB6FD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ACFE-2123-41E3-A0E2-46B5D6C80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8DFA-19E4-48B7-8ECB-47FE45972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BE0E-2EB0-4A73-8836-2233BD923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0832-AB20-4E99-A74C-C61B81E24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DE86-748D-421F-B5D5-0862AFD59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9FD-24B8-459C-9D02-1F8C865F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FF0-52FE-4501-8BF9-4B13116C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80A-4DA1-4ABE-8315-29D2B5E0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41F-795A-4AD4-8C06-B8C8340B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8996-DC46-42F0-8450-E1CFB913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3CE2-B132-4C23-A758-F37204E9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A714-1FE9-4B38-901D-C522C66A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B10A-0A11-4346-B4B5-1F8C8F37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823D-2023-44F6-941D-8AF3C6F7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0F64-2728-41CF-A53A-C4AAFA40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0058-181C-46DF-82D1-0662CA77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E57-C607-4D20-9839-D101E96C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0A05-E245-4A52-AF72-C87EEB7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9725-2C7B-4FC0-BC68-0E10E2C4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B1AC-D34F-4D19-99E8-D0E1C8C1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97CB-FEE9-45E8-ADF2-41FC0319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1E6F-1290-4502-A0CF-E326613A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6971C-6FDE-4B9F-B4E9-5A41C948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FC3F-505C-4001-A539-23C70EAB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FB12-8F74-4451-95A4-C1C1DECC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744D-0631-42FA-839F-524B3A1F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634E-FAA6-4863-AECF-3F1AAC7B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3B1-8001-4390-8969-0CDAD362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7F96D-B1D0-44F7-8C3B-D34CE5AD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B9F0-D3BB-4C7D-8679-2E362928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E9F6-3E69-42F5-B23B-E6D2B02A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7D82-48D5-4CB5-AED0-C3883509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64DF-41B9-41F0-A7B3-95CEB3C6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B7D69-5A8B-4730-9C68-9500E856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A549-AA9C-4518-B2A4-58257351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9BF-2864-497F-A2FE-EF8DE488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D4E-CAE6-4DAC-8EB0-9EEEDF63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23D-A91F-4724-93FD-AA8BDFE1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002-4B52-41E1-87D5-99EAA01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D5F4-8943-413F-89B3-929B9EFE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BBD-E87E-4AE6-B8FB-36CA892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4BCD-9D44-4850-AA78-11DC1B1C2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633B-5476-4F93-849A-D8B33F455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5BD1-FACC-417C-85F7-4A722870E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0" y="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hopped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She was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look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for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spotted 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Grandma and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hugged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grinned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and began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clapp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he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She said, “Let’s go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Yes! 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chatt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are fun,” said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12193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irst, next,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las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7696080" y="0"/>
            <a:ext cx="1447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Objective: To recognize names of days of the weeks and months of th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2" descr="la25"/>
          <p:cNvPicPr/>
          <p:nvPr/>
        </p:nvPicPr>
        <p:blipFill>
          <a:blip r:embed="rId1"/>
          <a:stretch/>
        </p:blipFill>
        <p:spPr>
          <a:xfrm>
            <a:off x="211140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Objective: To delete initial phonemes from word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457200" y="0"/>
            <a:ext cx="7162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8600" y="685800"/>
            <a:ext cx="76201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114300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bjective: To read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recognize and generate the  sound of the diagraph ch /ch/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agraph /ch/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5334120" y="1219320"/>
            <a:ext cx="38098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ch/ sound at the beginning, put your thumb up say /ch/.  When I say a word that does not have /ch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final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6" descr="MCj04110150000[1]"/>
          <p:cNvPicPr/>
          <p:nvPr/>
        </p:nvPicPr>
        <p:blipFill>
          <a:blip r:embed="rId1"/>
          <a:stretch/>
        </p:blipFill>
        <p:spPr>
          <a:xfrm>
            <a:off x="152280" y="1371600"/>
            <a:ext cx="51818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625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819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35053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28195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28600" y="1066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alibri"/>
              </a:rPr>
              <a:t>Let’s review adding –ed and –ing to the end of a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2286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alibri"/>
              </a:rPr>
              <a:t>Objectives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alibri"/>
              </a:rPr>
              <a:t>To read inflectional forms with –ed and –ing with a doubled final conso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2743200" y="25146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28600" y="3200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On my signal tell me what the word stop would become when we add -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2743200" y="365760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28600" y="50292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On my signal tell me what the word stop would become when we ad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2"/>
          <p:cNvSpPr txBox="1"/>
          <p:nvPr/>
        </p:nvSpPr>
        <p:spPr>
          <a:xfrm>
            <a:off x="2209680" y="563868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28600" y="152280"/>
          <a:ext cx="8915400" cy="13411440"/>
        </p:xfrm>
        <a:graphic>
          <a:graphicData uri="http://schemas.openxmlformats.org/drawingml/2006/table">
            <a:tbl>
              <a:tblPr/>
              <a:tblGrid>
                <a:gridCol w="1523880"/>
                <a:gridCol w="3657600"/>
                <a:gridCol w="3733920"/>
              </a:tblGrid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Root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ouble the consonant add –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ste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ba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ouble the consonant add –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ste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r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ba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5:40:25Z</dcterms:created>
  <dc:creator>Mylie</dc:creator>
  <dc:description/>
  <dc:language>en-US</dc:language>
  <cp:lastModifiedBy>Mylie</cp:lastModifiedBy>
  <dcterms:modified xsi:type="dcterms:W3CDTF">2010-01-04T05:59:23Z</dcterms:modified>
  <cp:revision>2</cp:revision>
  <dc:subject/>
  <dc:title>Slide 1</dc:title>
</cp:coreProperties>
</file>