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13.gif" ContentType="image/gif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5E8-D38D-47C0-847D-1BAA03E32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B275-95DE-40B3-84E7-9F525E4CF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9040-8189-4092-B6EA-A298BDC3C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8219-2FB1-4CDF-AF70-049325D60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EDD-568C-464E-9FAA-EB2D1DD4C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A33-CB83-4C37-B57D-58B6757E6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08A5-5C17-44A3-B4C6-4591DF95B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1F53-4539-443D-B1E0-9FFE65FF6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CC5-497A-4494-B07F-906326BE1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8E45-BD00-4A9B-AA93-CDEECD8FA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A15-6934-4142-BCA2-A15440951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C1F-3C7E-4769-B557-1F0EAFF85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F28D-A5D8-4D5A-A339-BF942E489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F84-7421-4961-AC79-91F49C3AA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82C-CD85-472C-B9C0-EAC20FA9D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7A6B-43E0-4B45-9BD0-00FD98233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E44-545A-41D7-80D1-C49E045C9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5A0-08C9-4B8B-AE6A-6A33E8737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D3CA-5665-4FF7-ABED-B1141AF4E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F06-9C40-45BC-B696-23C180A69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ABBF-F39E-4791-97A3-2996D254E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49F-F403-480D-A24D-D896778F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40C-E10A-4C42-94E1-45741163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1B0-0152-482D-9003-6DB6188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8BF-D0B5-4B0D-930B-E3A3C1BD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98A7-E2BF-401B-83E3-CA5EED6D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E085-D7C7-4243-8C99-FA89BA74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CF1E-9EFA-490C-9B5E-72EF1649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8A0C-4916-41AD-B57C-D2F7F5A3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EA5-1EDB-47E0-A031-357FBFE8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7D3C-DF61-43AA-AAB6-1704536B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0CB7-DE72-445D-8A42-D991C45F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E0F-F7B3-4FB5-8703-A1EDD28D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F478-7AC2-4BA3-AF67-D2374A34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6C0C-5926-4AF8-8606-B154AD6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01CE-5FA4-4836-B4E6-ED834E0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EAE3-8322-4476-A7BE-A4E9FFCE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79EC-8A9B-43A9-8CB6-46F12C78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5E51-780A-48F7-961C-D2B5C818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DF3E-8CAD-4B59-AF9C-D0CA465B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CB98-2DA5-4610-B50B-CFEB96F5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3ADF-E69D-4A3C-9D04-6A493E5A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A683-1F47-4899-9AB6-1F4917D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1B4-3053-487B-8F55-9F9A0ED1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3593-24D2-4054-8472-08B295D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6CBB-1575-44F5-BFD5-C7AA144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62EE-DC11-4067-8E46-7E8ECE7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02E9-BAA1-4089-9571-A2DF274C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540E-943E-4D7A-B5B5-4FFDA1B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0EFD-7436-4924-8109-81BF9919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A60CC-AE1D-47C9-8D33-7AC9D9B7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0D87F-6E68-48ED-869C-BD13452E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28A0-BBD3-48C9-9949-6D4DB53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A328B-CEB6-43C9-B1B7-A83C98B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7C4-668F-4C8B-A34B-1F66897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C891E-69E5-43A3-9B3F-83F457C4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D12C-9D0A-412D-8792-4F084F6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D7AB-110C-4150-BC7F-1FA19C99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43B7-FE1D-4AFF-AFB4-C718E52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D7E1-5F07-4B2F-A0EA-11BA53A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489F-22A9-4299-A2B8-CB55892E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03DE-1B68-4E64-8B59-B1795477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8C1E-DD68-4223-98DC-06A03B67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DA30-3E5E-4A79-9439-5E44D448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4315-A4A1-4CC1-8D08-0BE786C5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25F-9253-4556-A2B0-CB6325F0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2FBD3-ACD1-494C-8D20-17607CAA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138C-1D7D-4C2F-A677-305F431B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AAD7-AA72-4691-8A07-CFABABD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B82B-51DA-42C1-A0E7-D4DB497F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48D80-C07A-463D-B7CD-56309DD9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2178-28E4-4429-B3A7-DBB9F8A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A99D-EDB7-4E31-B8CF-21AF5F12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7E36-441E-4005-853A-45DF2E6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FF75-6A14-4A9E-9F56-991556B1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830B-5D71-4676-B2DE-F961CFE0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321-B081-49E1-AE30-278541D0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D332-4749-490B-8B1D-5C8570C2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F489-9EF1-456C-922C-A571BC47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C8467-07E5-432E-84F1-B8F8F69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AFA7-9779-40B4-91F4-0EED528A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7F53-7DC9-4FC4-8214-FCFFDBB4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4730-386A-40E7-88C3-7FC1295A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86CD-00BD-488A-AF3B-C01AD7A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51E7-C9D0-44F6-81FB-605FF00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F0E3-EBE9-4294-9C8B-86F5A49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CD02E-DE33-4EDD-A60D-C9F0A7D7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0D2-7060-409D-A615-C926125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DC08C-F243-4BC1-82C8-9E0AA641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06D4-61E0-4C4E-84D0-8ACCA013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A4856-934A-4082-AC06-5EE45B79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D21-26CD-4FDB-AE12-0A0302EB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7CB-1170-4009-9DB3-AE7ACA6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A87-63CF-482C-9385-82DCEA260B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E7C-1A2D-4F00-AE18-77492D0FBDE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0A4-9A04-40D1-A06B-5ED617A877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797-02D9-4F58-B137-7563FDA63C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2BE-8E6E-4CD4-B168-D5E47E103F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08C8-5760-4C34-A530-62E97BBC9C7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596880" y="1755720"/>
            <a:ext cx="8474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5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762120"/>
          <a:ext cx="9144000" cy="615132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lections –s, -ed, -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52280" y="0"/>
            <a:ext cx="861084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ad high-frequency words.</a:t>
            </a: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1" name="Picture 18" descr="MCj04350550000[1]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9" descr="MPj04244090000[1]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5" name="Picture 20" descr="MMj02364590000[1]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14" descr="MCj029591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3" name="Picture 13" descr="MMj02832120000[1]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25" descr="la27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0" y="0"/>
            <a:ext cx="91440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la28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4617b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15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52280" y="0"/>
            <a:ext cx="883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04920" y="115560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0" y="1981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0" y="2666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ke away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0" y="4038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4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ar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7559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 rot="1437600">
            <a:off x="6021000" y="441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 the underlined words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7" descr="r27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"/>
          <p:cNvSpPr/>
          <p:nvPr/>
        </p:nvSpPr>
        <p:spPr>
          <a:xfrm rot="20724600">
            <a:off x="0" y="761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Underline the </a:t>
            </a:r>
            <a:r>
              <a:rPr b="1" i="1" lang="en-US" sz="2000" spc="-1" strike="noStrike">
                <a:solidFill>
                  <a:srgbClr val="85dfd0"/>
                </a:solidFill>
                <a:latin typeface="Constantia"/>
              </a:rPr>
              <a:t>ar </a:t>
            </a: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words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2:52:44Z</dcterms:created>
  <dc:creator>lara colleen mangham</dc:creator>
  <dc:description/>
  <dc:language>en-US</dc:language>
  <cp:lastModifiedBy>lara colleen mangham</cp:lastModifiedBy>
  <dcterms:modified xsi:type="dcterms:W3CDTF">2010-01-05T03:04:41Z</dcterms:modified>
  <cp:revision>2</cp:revision>
  <dc:subject/>
  <dc:title>Slide 1</dc:title>
</cp:coreProperties>
</file>