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29D-27C6-4238-87B7-4BE3FEB03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3069-13DE-4243-9540-884E4C098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85AA-FFF9-4D0A-9A23-083CDDADD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7969-1226-437C-A6FC-0CC91E49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7E5A-5A9E-4F42-9953-D468B9DF8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6F94-14F0-4DA2-B544-67D4179488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945C-FADF-4137-A7DA-E636204E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6BF-90E7-4620-A1E2-8E9A35F3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806-F3D0-457B-BE67-629545CF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417-AC1A-4042-BD50-2378F680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2B6-5A56-431D-BCE7-E857CB8C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4F8E-BE97-4270-88E3-E7C58231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501E-F358-4446-8A2F-37711174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5A4-22CB-482C-BDFA-46569CBF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D805-C56E-4C1C-82EE-C655DA96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4D9B-B02A-4248-AFF7-9FFBC046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D13-9A43-47FF-A80F-97F34857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F83C-A508-499C-A5D2-EFB2E496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E70-9462-4FDD-9E9F-51D84B60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9CB-28A2-41D5-B3A8-1DC8301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A38C-6154-4E37-AD96-955AF4E1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8E98-49C4-4E3E-B78B-749A06A4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38DF-C45A-4056-A67D-EE70E54E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59F0-0D8B-41FF-A9EA-AC37CDF0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F889-4BF3-4D64-BDCF-D5159CBA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1D16-BEB7-434B-A864-BB79157F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8B0E-6C33-4672-822F-0CB81515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FD929-F798-4CF8-A179-9219576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AF0E-36AB-48FE-B928-510E5DD8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740-4494-49F0-89CF-38EEA8B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D84C-38A2-48D6-9784-7ED9FEB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22E1-6EDE-4AB0-97CD-99A9EC4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94DC-99BC-419A-92ED-2E91EC1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D91E-DEAC-4CFE-9913-BE9836E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2055-A376-418F-9BE7-37A3B655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DFDC-49E3-4C76-92AB-C0D0227D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C254-7805-4548-89A4-5026F4F5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1C2-5467-4807-8CEA-4A2D90DB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C5F-BCB2-412F-B9E7-819A826F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AD6-4B13-4BE0-A6D1-AC563B8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633-6C1D-4700-B635-7FC9687A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9F9-4E16-439C-BFC1-57134357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92D-1585-48CC-8223-4A61818A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30AA-3CE4-4537-AFC2-008311FA7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1C41-3DAF-40F3-B1F0-34C44B24F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0E3A-8D46-4053-9096-0280B08DD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0" y="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2" descr="la25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Objective: To delete initial phonemes from word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457200" y="0"/>
            <a:ext cx="7162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685800"/>
            <a:ext cx="76201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11430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bjective: To rea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recognize and generate the  sound of the diagraph ch /ch/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ch/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5334120" y="1219320"/>
            <a:ext cx="38098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ch/ sound at the beginning, put your thumb up say /ch/.  When I say a word that does not have /c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6" descr="MCj04110150000[1]"/>
          <p:cNvPicPr/>
          <p:nvPr/>
        </p:nvPicPr>
        <p:blipFill>
          <a:blip r:embed="rId1"/>
          <a:stretch/>
        </p:blipFill>
        <p:spPr>
          <a:xfrm>
            <a:off x="152280" y="1371600"/>
            <a:ext cx="51818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19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28195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1066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alibri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alibri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alibri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2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5:40:25Z</dcterms:created>
  <dc:creator>Mylie</dc:creator>
  <dc:description/>
  <dc:language>en-US</dc:language>
  <cp:lastModifiedBy>Mylie</cp:lastModifiedBy>
  <dcterms:modified xsi:type="dcterms:W3CDTF">2010-01-04T05:59:23Z</dcterms:modified>
  <cp:revision>2</cp:revision>
  <dc:subject/>
  <dc:title>Slide 1</dc:title>
</cp:coreProperties>
</file>