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999C-9EA8-4264-AF09-DC7E3C9BD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7DD-5EF5-44F3-9948-E1FB3D487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C012-1558-414A-A9FE-10EE739ED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5DBA-0FDF-4C1A-8C29-5A4C4D46A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71C-7281-4C8B-B857-E30EB8894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7BD-F430-48CC-9EAE-B28CD1EAA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3922-8D2A-4B5D-9265-FCE960A56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BAC-F66A-4D09-B161-42E09C70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85E-B884-4B11-A862-41EA7FD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602-2DCF-4F5D-8ABE-8F97F7C8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79D-125A-41B7-A88C-49BA809E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B68F-70E7-4731-8A95-183DD408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14D1-E0B8-434E-944F-79B454EE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0419-F18D-44DA-9324-ED13CC48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6302-190C-4459-A049-1DE0CDF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F568-C59A-4F16-A993-4250BD9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3B47-854B-4AF1-8C8A-A10BD0DE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C918-B342-49EC-A922-2FC80BFE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E45-3E4F-4E0B-A680-A8E1DF0B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B085-478A-4E67-8BEA-0DEDEA57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83E-9B7D-4E24-8251-58C0FC52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2A1A-7185-4C3D-A26A-AE02AE8E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D1DB-DD25-4336-8264-DDC49EA6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2B0E-010A-4F6E-A605-536A6571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C53F7-31B1-4A76-80C8-6AAA2860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45D6-D67B-473B-9E4E-22D2F7BA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B0C9-7F4F-440E-9AFE-A060605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78BB2-D2F5-412E-A1D2-DC4B6038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8D183-D802-41E6-9CFF-EE61C43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F00-0D27-4785-A4EF-6426E93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951D-1175-4D0E-8A72-983C48D5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2C28-42E8-4DC0-8B27-78BCA7D2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0EE93-7A5B-4ED8-B4B2-0BD02EA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9CB5A-3EE1-4FC3-ABB3-3C7AAC2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86B1B-024B-4A30-8935-8F0ACC5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D125-401F-4F7E-80DD-E05F6943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E6D5-C10C-4E0C-B7EC-D6000DBD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5EB-368C-4B70-9C87-A80B4F1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9D6-44C1-4B32-BC4E-A9D82CC8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045-BBB9-4D83-BAC8-12C0988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2760-7CF1-4484-9D07-14F11C79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A68-094F-4140-9FB0-7689823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1F0-4150-4084-9509-DBE0AD5B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CE8-1D20-408E-80D0-56F48523F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AC2D-8C82-42C1-9644-F9CF28087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BFE-27B1-48F7-B795-22FB757D2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0" y="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opp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was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look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for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potted 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Grandma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hugg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Pam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grinned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began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la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he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She said, “Let’s go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Yes! 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Shopp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5050"/>
                </a:solidFill>
                <a:latin typeface="Calibri"/>
              </a:rPr>
              <a:t>chatting</a:t>
            </a:r>
            <a:r>
              <a:rPr b="0" lang="en-US" sz="3200" spc="-1" strike="noStrike">
                <a:solidFill>
                  <a:srgbClr val="6666ff"/>
                </a:solidFill>
                <a:latin typeface="Calibri"/>
              </a:rPr>
              <a:t> are fun,” said Grand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onstantia"/>
              </a:rPr>
              <a:t>Sequenc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121932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tells everything in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uses words such as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first, next,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las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t has a beginning, middle, and an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Arial"/>
              </a:rPr>
              <a:t>Objective: To understand sequenc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8" descr="sequence chart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7696080" y="0"/>
            <a:ext cx="1447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recognize names of days of the weeks and months of the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2" descr="la25"/>
          <p:cNvPicPr/>
          <p:nvPr/>
        </p:nvPicPr>
        <p:blipFill>
          <a:blip r:embed="rId1"/>
          <a:stretch/>
        </p:blipFill>
        <p:spPr>
          <a:xfrm>
            <a:off x="2111400" y="0"/>
            <a:ext cx="52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Objective: To delete initial phonemes from word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3" descr="MPj04395230000[1]"/>
          <p:cNvPicPr/>
          <p:nvPr/>
        </p:nvPicPr>
        <p:blipFill>
          <a:blip r:embed="rId1"/>
          <a:stretch/>
        </p:blipFill>
        <p:spPr>
          <a:xfrm>
            <a:off x="5181480" y="1066680"/>
            <a:ext cx="363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457200" y="0"/>
            <a:ext cx="7162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85800"/>
            <a:ext cx="762012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0" y="1143000"/>
            <a:ext cx="304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Objective: To rea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629400" y="609480"/>
            <a:ext cx="2133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66ff"/>
                </a:solidFill>
                <a:uFillTx/>
                <a:latin typeface="Comic Sans MS"/>
              </a:rPr>
              <a:t>Word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ff"/>
                </a:solidFill>
                <a:latin typeface="Comic Sans MS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recognize and generate the  sound of the diagraph ch /ch/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228600"/>
            <a:ext cx="8458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Diagraph /ch/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5334120" y="1219320"/>
            <a:ext cx="38098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ch/ sound at the beginning, put your thumb up say /ch/.  When I say a word that does not have /ch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t’s do the same thing with the final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6" descr="MCj04110150000[1]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16292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96252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195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419720" y="3657600"/>
            <a:ext cx="1218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733920" y="3657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954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Objective: To build and blend words with /ch/ ch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8862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4267080" y="1219320"/>
            <a:ext cx="129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5053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8195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267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7339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42670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228600" y="1066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alibri"/>
              </a:rPr>
              <a:t>Let’s review adding –ed and –ing to the end of a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22860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Objectives: To recognize root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alibri"/>
              </a:rPr>
              <a:t>To read inflectional forms with –ed and –ing with a doubled final conso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2743200" y="251460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28600" y="32004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0"/>
          <p:cNvSpPr txBox="1"/>
          <p:nvPr/>
        </p:nvSpPr>
        <p:spPr>
          <a:xfrm>
            <a:off x="2743200" y="365760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28600" y="50292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On my signal tell me what the word stop would become when we add -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12"/>
          <p:cNvSpPr txBox="1"/>
          <p:nvPr/>
        </p:nvSpPr>
        <p:spPr>
          <a:xfrm>
            <a:off x="2209680" y="5638680"/>
            <a:ext cx="4724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opp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28600" y="152280"/>
          <a:ext cx="8915400" cy="13411440"/>
        </p:xfrm>
        <a:graphic>
          <a:graphicData uri="http://schemas.openxmlformats.org/drawingml/2006/table">
            <a:tbl>
              <a:tblPr/>
              <a:tblGrid>
                <a:gridCol w="1523880"/>
                <a:gridCol w="3657600"/>
                <a:gridCol w="3733920"/>
              </a:tblGrid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Root 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st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h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ouble the consonant add –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ste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ba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ouble the consonant add –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ste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drag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ho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ba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5:40:25Z</dcterms:created>
  <dc:creator>Mylie</dc:creator>
  <dc:description/>
  <dc:language>en-US</dc:language>
  <cp:lastModifiedBy>Mylie</cp:lastModifiedBy>
  <dcterms:modified xsi:type="dcterms:W3CDTF">2010-01-04T05:59:23Z</dcterms:modified>
  <cp:revision>2</cp:revision>
  <dc:subject/>
  <dc:title>Slide 1</dc:title>
</cp:coreProperties>
</file>