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6.gif" ContentType="image/gif"/>
  <Override PartName="/ppt/media/image14.gif" ContentType="image/gif"/>
  <Override PartName="/ppt/media/image17.png" ContentType="image/png"/>
  <Override PartName="/ppt/media/image13.gif" ContentType="image/gif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8F82-9207-419E-ADD8-DA39D78A1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B96-0F2A-4CD0-90CE-318CD3729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491-B1CB-46A1-98C6-F01D1BB34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C6F-BF41-41F8-B218-DC31CC1F6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203-7B60-4957-947A-B61698A67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5016-7449-417E-B2EC-9F4FE6A9B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31C6-1FDE-4CBF-B665-A67C95CFB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05B-84CB-4CFE-A2DC-F0A713740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4E8-177C-435A-BDDA-A5ABB6CDB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EDFF-5016-486B-A8FB-411EA2260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674B-A713-4793-AA5B-4930A540E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0D81-8EA2-40C4-A850-E89390D39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D3E-FC15-4ABD-92A4-529E25943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416B-E47C-4BC9-B892-57AF4A1D1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9225-6C21-42D4-9945-855870B9D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BDF2-6CFF-487F-A71C-846892559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31C4-85D6-4EDD-A795-576CC6486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E72-2203-4602-B03A-23A61401C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2C38-8D3A-46ED-823F-D6DFB0068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493F-B291-4AB8-9731-80DADD3EB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1262-6908-45E8-89EE-F049E34CE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EE4-CD6D-4BAE-AFA7-820DB4A7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FF8-BC6A-4FBD-AA3A-D9AAB8BC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C45-A29E-487C-8256-8AAD3B21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F83-1610-45A6-A138-C6DE0FA0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D812-733B-409C-98BB-A1B8F8B3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B594-0D37-46C3-BD5E-95D7CDE8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2D5-716A-4CFB-9DE8-461EEB16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BACE-E67F-4CC2-937B-0F7614D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54E8-607D-47BB-83C2-3C2E57E3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965-2318-418D-A241-0F633034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1938-659B-4CCE-B475-004A6555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9AB-5A5F-48DB-AAB3-10473C6E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251C-1A5F-481D-8C52-1DD5B3EA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079B-F23D-4AD8-B792-31EAFF6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4885-951E-40E0-8A29-A71ACBC0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CE30-47E7-49EA-B2C4-08CBFB60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4618-8495-4559-8B53-B55368F0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D7AA-4EB9-4760-B89D-EF848E88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50DE1-23C8-41E7-8E59-F29428E1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B644F-66E2-4B70-AF43-6E19AFC3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0C3C-94DF-4C33-B33C-51D0C503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6CE07-C7E9-4909-9AB5-EC611C6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A02-5C0B-49CA-9A8B-615C880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F371B-7299-4AE9-BF58-F125CCA4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37D7-8857-4B92-A0F1-FE35B6C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BB12-2AC9-486F-994B-F2246C6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96A1-81B1-401E-A665-B806CDEC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E82B-35A8-4803-AE69-E4072C35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DC45-CB2A-4B32-A794-11921DB7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21B9-9994-4A90-9A2C-9200F7FA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1453-F935-455A-BDE2-BEC3E0CD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7A84-FA31-4A5D-8C6D-9DCAFD4B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16501-061B-4DA3-A012-18892EE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8B4-DB0F-435C-8977-7AEEF090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057E8-25F1-41C1-949B-ECB908E9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D15C-A9B8-4F8E-89CC-6DA8AFD5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8A2E-491E-469F-A4A9-33B4EDA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D5A0-5009-4A68-A7DF-D6170C9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F612-4E76-47B3-A65A-99ABC9DE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CB17B-2AD8-4B87-BA32-594B71F7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B511-2A80-4292-9456-4E74705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92D2-A3C9-441E-90CC-0B363B10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EA9A8-106F-441D-B859-95BC20EF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3E4E-E718-4296-B079-761EE7C9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CB0-FDA0-4077-AE23-FCF6B811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A428-E254-486C-AF47-FADF0F49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3F90-99B1-45E9-8B50-7E19467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B69DA-63E1-4669-AD2C-89CDFD2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9D92-0ED3-4539-BC57-9F4F38EC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3FF53-1BCC-4CFB-AD2C-D4B6A05E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CB0A-9A27-47F6-980A-39CA4F6D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ACE0-DC4B-48F6-AEDE-BAA79F5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EA69A-7321-41A0-8886-E52E24AC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401B-DF3D-48FB-80F0-9BF9CD0F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73F02-E1EE-4726-947F-253AA429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E92-69EE-4091-A8AE-8E409A3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285DC-C18F-4B69-966A-BF4A3622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94F48-1EF5-4B2D-A0BE-83AF0751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45127-4E10-4755-9CB0-1BC50CE5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1551-4A6A-4200-B45C-5DD26CF3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890A-F9D3-4803-BB93-BEA081A2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F1BD-EF92-471E-B948-60FB2CDD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195E9-EB2B-4AEC-9CDA-5EA607A3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40434-601B-4913-A464-F5A062E5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64DD6-750C-4A2C-9002-1BABBC7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BC62-BA74-4F3F-B30D-0F7DC11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BB8-791E-4552-BD88-23743BC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D16E3-0071-4BE0-812F-E017CC7C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0315-3DD1-4AC7-984E-EF4BFFF3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B5ED-3802-4EFA-A160-EFD14DCC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769-C1AC-4899-B467-89D52434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723-7D54-4DFD-8F43-23F5D0C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72E7-CB07-4B71-9B32-2199851AB3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70F-AFC9-4A3A-86B8-B25FD84282F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CC9B-1E98-4559-8C40-FE9DF2F393B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391-4382-4ED9-8C84-F18D1E0C694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3EC5-4707-49F0-A88C-85ED6F16C0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2B01-54E1-49C2-B558-CC27974D79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596880" y="1755720"/>
            <a:ext cx="84740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3048120" y="2057400"/>
            <a:ext cx="304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28600" y="30492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To read inflected forms with –s, -ed, and –ing with no spelling chan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" y="12952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Let’s see what happens if we add s,ed, and ing to the word par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80880" y="41148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s = park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ed = parke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ing = park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762120"/>
          <a:ext cx="9144000" cy="6151320"/>
        </p:xfrm>
        <a:graphic>
          <a:graphicData uri="http://schemas.openxmlformats.org/drawingml/2006/table">
            <a:tbl>
              <a:tblPr/>
              <a:tblGrid>
                <a:gridCol w="2484360"/>
                <a:gridCol w="208764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lections –s, -ed, -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696080" y="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recognize root wor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429000" y="1219320"/>
            <a:ext cx="243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3352680" y="2438280"/>
            <a:ext cx="2514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352680" y="350532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e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3276720" y="4495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in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52280" y="0"/>
            <a:ext cx="861084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Ron wa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looking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at his plant box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som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Then 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water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Every day, 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look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at h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Soon the littl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start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o grow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One day, Ron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ick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Now Ron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feel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goo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He 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eating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h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read high-frequency words.</a:t>
            </a: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fa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809880" y="1600200"/>
            <a:ext cx="3353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7. chi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8. su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9. fl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10. wat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6633"/>
                </a:solidFill>
                <a:latin typeface="Comic Sans MS"/>
              </a:rPr>
              <a:t>Author’s Purpos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3" name="Picture 23" descr="MCj04241340000[1]"/>
          <p:cNvPicPr/>
          <p:nvPr/>
        </p:nvPicPr>
        <p:blipFill>
          <a:blip r:embed="rId1"/>
          <a:stretch/>
        </p:blipFill>
        <p:spPr>
          <a:xfrm>
            <a:off x="4724280" y="2286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1447920" y="205740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“The Hare and the Tortoise,” we learned that being the fastest runner doesn’t mean you will always win the r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that story the author had a purpose, or reason, for writing the story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purpose of “The Hare and the Tortoise” was to teach us that working very hard and never giving up will help us do well in school and in lif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Sometimes looking for the author’s purpose in a story will help us comprehend the story better. 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6629400" y="0"/>
            <a:ext cx="2514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Objective:  To understand the author’s purpose for writing a selection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1" name="Picture 18" descr="MCj04350550000[1]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5943600" y="1714680"/>
            <a:ext cx="2951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9" descr="MPj04244090000[1]"/>
          <p:cNvPicPr/>
          <p:nvPr/>
        </p:nvPicPr>
        <p:blipFill>
          <a:blip r:embed="rId1"/>
          <a:stretch/>
        </p:blipFill>
        <p:spPr>
          <a:xfrm>
            <a:off x="304920" y="1981080"/>
            <a:ext cx="548640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 - To read high frequency word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er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11" descr="MMj03546760000[1]"/>
          <p:cNvPicPr/>
          <p:nvPr/>
        </p:nvPicPr>
        <p:blipFill>
          <a:blip r:embed="rId1"/>
          <a:stretch/>
        </p:blipFill>
        <p:spPr>
          <a:xfrm>
            <a:off x="685800" y="1676520"/>
            <a:ext cx="33526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5" name="Picture 20" descr="MMj02364590000[1]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14" descr="MCj02959150000[1]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3" name="Picture 13" descr="MMj02832120000[1]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25" descr="la27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0" y="0"/>
            <a:ext cx="9144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In January we celebrate _____ and 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We celebrate Valentine’s Day and __________ in Februa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The first day of April is called _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At the end of May, we celebrate _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Our country’s birthday is called the 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0" y="0"/>
            <a:ext cx="91440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I sent valentines on valentine’s da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We give thanks on thanksgiv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We went to the park on the fourth of jul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The third Monday in February is president’s da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77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77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0" dur="77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la28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8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4617b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 - To read high frequency word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15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a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e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n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uil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uil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1148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4197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0384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572000" y="3505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5053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35812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411480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49528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52280" y="0"/>
            <a:ext cx="883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Objective: To use /ar/ and other known letter sounds to spell and write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609480" y="838080"/>
            <a:ext cx="8229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04920" y="115560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fa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fa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0" y="1981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0" y="2666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ake away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0" y="3352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0" y="4038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ar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7559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 rot="1437600">
            <a:off x="6021000" y="441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 the underlined words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7" descr="r27"/>
          <p:cNvPicPr/>
          <p:nvPr/>
        </p:nvPicPr>
        <p:blipFill>
          <a:blip r:embed="rId1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"/>
          <p:cNvSpPr/>
          <p:nvPr/>
        </p:nvSpPr>
        <p:spPr>
          <a:xfrm rot="20724600">
            <a:off x="0" y="761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nstantia"/>
              </a:rPr>
              <a:t>Underline the </a:t>
            </a:r>
            <a:r>
              <a:rPr b="1" i="1" lang="en-US" sz="2000" spc="-1" strike="noStrike">
                <a:solidFill>
                  <a:srgbClr val="85dfd0"/>
                </a:solidFill>
                <a:latin typeface="Constantia"/>
              </a:rPr>
              <a:t>ar </a:t>
            </a:r>
            <a:r>
              <a:rPr b="1" lang="en-US" sz="2000" spc="-1" strike="noStrike">
                <a:solidFill>
                  <a:srgbClr val="85dfd0"/>
                </a:solidFill>
                <a:latin typeface="Constantia"/>
              </a:rPr>
              <a:t>words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2:52:44Z</dcterms:created>
  <dc:creator>lara colleen mangham</dc:creator>
  <dc:description/>
  <dc:language>en-US</dc:language>
  <cp:lastModifiedBy>lara colleen mangham</cp:lastModifiedBy>
  <dcterms:modified xsi:type="dcterms:W3CDTF">2010-01-05T03:04:41Z</dcterms:modified>
  <cp:revision>2</cp:revision>
  <dc:subject/>
  <dc:title>Slide 1</dc:title>
</cp:coreProperties>
</file>