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18.png" ContentType="image/png"/>
  <Override PartName="/ppt/media/image16.gif" ContentType="image/gif"/>
  <Override PartName="/ppt/media/image14.gif" ContentType="image/gif"/>
  <Override PartName="/ppt/media/image17.png" ContentType="image/png"/>
  <Override PartName="/ppt/media/image13.gif" ContentType="image/gif"/>
  <Override PartName="/ppt/media/image5.png" ContentType="image/png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1E70-967F-4890-A83F-F6B4BBF58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9578-87BD-49CC-A2F3-FCE6018F5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3F6C-ED0A-45E2-926A-05536C87E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BDC6-E120-4699-9AEC-94603B7A6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7535-D4EF-4196-9B5B-4980AA5E6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0AE7-F94A-462F-8337-9202D4976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5879-CC94-4403-AF35-2BC0B966F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759B-3D98-44B1-988B-A595B5E15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F1E1-3152-4BBF-9F4F-F8FD95C6C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960F-02B3-45AB-B635-31075BC7B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0E10-8EB7-4D49-8CD4-9E58D5583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F19-5B9D-4857-B563-E935FB0B5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A8FF-F2DA-40DF-A39B-8EE784CDD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CF66-67C3-4023-BB29-CC1F703D9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7F3D-DCDB-46C9-BED7-960487D0D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B096-8504-41D2-90AE-ABEFAB784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01A3-23D3-47B9-ACA6-42EC78CA6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933A-566B-471D-BEC3-6B512CCD8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CBC9-86DB-4910-8D25-02BA50F0D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841C-F74D-474E-A963-E90C28245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4F57-6AC2-47A4-BBA5-A399D1247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E4D-9F6F-47DE-88FC-C9E7AA11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37AA-0C1B-4D40-A70D-8C80BE9A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34EA-8BEB-4102-9C70-10C4C570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6EC-B4BA-41F7-9DDD-DAED92C1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CEB2-2ABC-436C-A3C5-868FDF03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04B3-D977-454A-A6B5-F72DD056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D39A-0894-49E0-A0A4-84B47327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AD99-79A1-47CA-AA58-97A047BF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B50C-4BDD-48F4-A2C2-034EE9EA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80C9-E03C-435F-91D5-621E54D2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3927-9942-480A-B8E9-C09863FD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FC1-DF78-4258-8B44-DFC52089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1D73-C93A-48E2-A71D-C492CBD8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036F-E380-4E07-852E-BED88522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A9A9-EBBF-4C9E-94EB-47AFA7F0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3882-2886-4136-B9CB-087829A5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8081-B78E-45DA-8D3E-0F16A0E7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6D83-858F-40D2-BCE4-26C46AF7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90DF-E5F2-4529-B45D-E7EF77A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26A8-85C3-4F2F-91D1-DF2B3A29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51EC6-358F-4389-B21D-39A7593C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24416-E7ED-466A-BADC-B296002F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1B9-49DD-4563-A06F-874E42BC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A546-1C24-44B1-9DF9-F04E8F96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320F-3FC0-4C4E-BDF8-4F5C4C7A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C636-4EBE-4DD6-85DC-BF28991A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FE8CB-1A68-4B5F-8858-032106EB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2D84-C20C-4687-868F-01F96364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45EB-FA71-4FBA-A19C-EF5B5337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53D60-2A7B-4A21-AD3A-9917F6B3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0993B-26C9-4F47-8A4C-5124302D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9EEF5-4130-48FD-A74F-8CF026B7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BDFE9-5DF4-472A-95A9-7D7C46A9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D23-ED46-453A-B931-1F257F92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7FF7C-096B-45D2-9E59-004686C1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78AF3-5AFE-43D2-9F78-9351C9D7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31B3-CC89-4F22-A8EB-0E9D3678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00B20-E3CC-465A-8C6B-22921318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43364-4A82-46DD-8108-61393F25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02A75-DE11-40B7-9873-47D845FE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89DB-729B-4D6F-B2EE-94E03E7E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1A8E5-0DF7-4DFE-80DA-BD5F798B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932F6-433A-479B-A47F-8B85FC0E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62FA3-FAD4-4ECC-9B38-7B4ADEC0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F5F-FCF0-40CE-91CC-13AA80FC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04EB0-353D-4ABB-B4EE-1ECD7FF8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95135-A656-46DA-8F91-7848C10B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0699-0F7B-42FB-9E07-9A5CEB9A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BA9A-6687-4730-9103-BA6B6B92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E400-F480-4864-8503-C8761D4C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B25E0-743A-4335-B1BA-666119D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09EE5-2E41-4707-BCE1-8AB68A38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938A3-4ED3-425D-B4AA-84962E8F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B6564-E118-452E-A7F1-9E0610ED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DFF8B-4CCE-4E64-91AC-04B38934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22D-34EE-478B-AE8B-C058B677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63CA-1663-43D7-8C0D-E28502D8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85AB6-DBDA-4E1E-BC75-C02CB6C2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45868-C49C-4AEB-9B9D-5EE5AA19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38AB8-F65F-4296-AE44-FA07C638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68FE5-5917-4AED-B79C-6763DD4C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73BCE-916B-4144-88AB-FBBB9F83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120E7-B4C2-4DFE-8D59-C089B541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157D5-AD14-4200-8EAF-DA59EE58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4D41A-B785-43E4-BBCB-2424EB8A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F4B43-37D3-4686-96C7-36ABB48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0F14-F9F1-4186-8075-1DD8BDF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BA72-541C-478C-840E-D547FDF8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8E078-582D-4DA9-A740-F951D34F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60EDF-8FE0-4EAC-A285-22BE5761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7D6-6C58-4F23-A225-05B2493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DDD-15B6-4B23-8E73-6C210D70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00B3-46C2-4D64-AFE4-6DA48707EF3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AC4B-CA8C-4E81-80C2-51749F183A2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9AD6-2F7F-4AD8-8F3B-60F543D2A35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6F15-1957-4AA8-973B-CBF33FE6B08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2833-5CE2-49B4-8FA9-A7444F93A50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39A2-154F-490B-A433-B784F80CBE9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3" descr=""/>
          <p:cNvPicPr/>
          <p:nvPr/>
        </p:nvPicPr>
        <p:blipFill>
          <a:blip r:embed="rId1"/>
          <a:stretch/>
        </p:blipFill>
        <p:spPr>
          <a:xfrm>
            <a:off x="596880" y="1755720"/>
            <a:ext cx="84740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4"/>
          <p:cNvSpPr txBox="1"/>
          <p:nvPr/>
        </p:nvSpPr>
        <p:spPr>
          <a:xfrm>
            <a:off x="3048120" y="2057400"/>
            <a:ext cx="3047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228600" y="304920"/>
            <a:ext cx="8534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Objective: To recognize root w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To read inflected forms with –s, -ed, and –ing with no spelling chang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28600" y="12952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Let’s see what happens if we add s,ed, and ing to the word par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380880" y="411480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add s = park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add ed = parke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nstantia"/>
              </a:rPr>
              <a:t>add ing = park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762120"/>
          <a:ext cx="9144000" cy="6151320"/>
        </p:xfrm>
        <a:graphic>
          <a:graphicData uri="http://schemas.openxmlformats.org/drawingml/2006/table">
            <a:tbl>
              <a:tblPr/>
              <a:tblGrid>
                <a:gridCol w="2484360"/>
                <a:gridCol w="2087640"/>
                <a:gridCol w="2286000"/>
                <a:gridCol w="2286000"/>
              </a:tblGrid>
              <a:tr h="61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Roo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l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p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l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p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wa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la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ic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dd –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la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pic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wat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flections –s, -ed, -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7696080" y="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recognize root wor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429000" y="1219320"/>
            <a:ext cx="243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3352680" y="2438280"/>
            <a:ext cx="2514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352680" y="3505320"/>
            <a:ext cx="2743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e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3276720" y="44956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jumping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>
            <a:off x="152280" y="0"/>
            <a:ext cx="861084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Ron wa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looking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at his plant box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som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Then 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water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them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Every day, 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look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at hi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Soon the littl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start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to grow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One day, Ron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icked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the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Now Ron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feel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good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He i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eating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 his </a:t>
            </a:r>
            <a:r>
              <a:rPr b="1" lang="en-US" sz="3600" spc="-1" strike="noStrike">
                <a:solidFill>
                  <a:srgbClr val="3366ff"/>
                </a:solidFill>
                <a:latin typeface="Constantia"/>
              </a:rPr>
              <a:t>plants</a:t>
            </a:r>
            <a:r>
              <a:rPr b="1" lang="en-US" sz="3600" spc="-1" strike="noStrike">
                <a:solidFill>
                  <a:srgbClr val="9900cc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nstantia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says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her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nstantia"/>
              </a:rPr>
              <a:t>play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read high-frequency words.</a:t>
            </a:r>
            <a:r>
              <a:rPr b="0" lang="en-US" sz="1600" spc="-1" strike="noStrike">
                <a:solidFill>
                  <a:srgbClr val="009dd9"/>
                </a:solidFill>
                <a:latin typeface="Constant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far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far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arm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ar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par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park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WordArt 5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3809880" y="1600200"/>
            <a:ext cx="3353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7. chi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8. suc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9. fl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10. watc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6633"/>
                </a:solidFill>
                <a:latin typeface="Comic Sans MS"/>
              </a:rPr>
              <a:t>Author’s Purpos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3" name="Picture 23" descr="MCj04241340000[1]"/>
          <p:cNvPicPr/>
          <p:nvPr/>
        </p:nvPicPr>
        <p:blipFill>
          <a:blip r:embed="rId1"/>
          <a:stretch/>
        </p:blipFill>
        <p:spPr>
          <a:xfrm>
            <a:off x="4724280" y="228600"/>
            <a:ext cx="2006640" cy="126684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1447920" y="2057400"/>
            <a:ext cx="6400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“The Hare and the Tortoise,” we learned that being the fastest runner doesn’t mean you will always win the ra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that story the author had a purpose, or reason, for writing the story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he purpose of “The Hare and the Tortoise” was to teach us that working very hard and never giving up will help us do well in school and in lif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Sometimes looking for the author’s purpose in a story will help us comprehend the story better.  </a:t>
            </a:r>
            <a:r>
              <a:rPr b="0" lang="en-US" sz="2000" spc="-1" strike="noStrike">
                <a:solidFill>
                  <a:srgbClr val="c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6629400" y="0"/>
            <a:ext cx="2514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Objective:  To understand the author’s purpose for writing a selection.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Approached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nergetic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Pac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3886200" cy="513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If you approached something,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you moved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toward it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pproached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1" name="Picture 18" descr="MCj04350550000[1]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4108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4617b"/>
                </a:solidFill>
                <a:latin typeface="Comic Sans MS"/>
              </a:rPr>
              <a:t>energetic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5943600" y="1714680"/>
            <a:ext cx="29512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are energetic, you are filled with energy.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5" name="Picture 9" descr="MPj04244090000[1]"/>
          <p:cNvPicPr/>
          <p:nvPr/>
        </p:nvPicPr>
        <p:blipFill>
          <a:blip r:embed="rId1"/>
          <a:stretch/>
        </p:blipFill>
        <p:spPr>
          <a:xfrm>
            <a:off x="304920" y="1981080"/>
            <a:ext cx="5486400" cy="4025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 - To read high frequency word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say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er           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fly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638680" y="1447920"/>
            <a:ext cx="31100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Your pace is how fast you are going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pace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9" name="Picture 11" descr="MMj03546760000[1]"/>
          <p:cNvPicPr/>
          <p:nvPr/>
        </p:nvPicPr>
        <p:blipFill>
          <a:blip r:embed="rId1"/>
          <a:stretch/>
        </p:blipFill>
        <p:spPr>
          <a:xfrm>
            <a:off x="685800" y="1676520"/>
            <a:ext cx="335268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Blunde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Reassur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876560" y="1295280"/>
            <a:ext cx="3886200" cy="513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If you make a blunder, </a:t>
            </a:r>
            <a:br>
              <a:rPr sz="4000"/>
            </a:br>
            <a:r>
              <a:rPr b="0" lang="en-US" sz="4000" spc="-1" strike="noStrike">
                <a:solidFill>
                  <a:srgbClr val="04617b"/>
                </a:solidFill>
                <a:latin typeface="Comic Sans MS"/>
              </a:rPr>
              <a:t>you make a bad or silly mistake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blunder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5" name="Picture 20" descr="MMj02364590000[1]"/>
          <p:cNvPicPr/>
          <p:nvPr/>
        </p:nvPicPr>
        <p:blipFill>
          <a:blip r:embed="rId1"/>
          <a:stretch/>
        </p:blipFill>
        <p:spPr>
          <a:xfrm>
            <a:off x="609480" y="190512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3564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4617b"/>
                </a:solidFill>
                <a:latin typeface="Comic Sans MS"/>
              </a:rPr>
              <a:t>reassure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5486400" y="1752480"/>
            <a:ext cx="335268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reassure someone, you tell him or 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her that everything will be alright.</a:t>
            </a:r>
            <a:endParaRPr b="0" lang="en-US" sz="3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14" descr="MCj02959150000[1]"/>
          <p:cNvPicPr/>
          <p:nvPr/>
        </p:nvPicPr>
        <p:blipFill>
          <a:blip r:embed="rId1"/>
          <a:stretch/>
        </p:blipFill>
        <p:spPr>
          <a:xfrm>
            <a:off x="838080" y="1752480"/>
            <a:ext cx="41497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5334120" y="1447920"/>
            <a:ext cx="3414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f you excel at something, you are very good at it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2743200" y="228600"/>
            <a:ext cx="3589200" cy="1276200"/>
          </a:xfrm>
          <a:prstGeom prst="roundRect">
            <a:avLst>
              <a:gd name="adj" fmla="val 10486"/>
            </a:avLst>
          </a:prstGeom>
          <a:solidFill>
            <a:srgbClr val="0f6fc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2590920" y="304920"/>
            <a:ext cx="391932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excel</a:t>
            </a:r>
            <a:endParaRPr b="0" lang="en-US" sz="5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3" name="Picture 13" descr="MMj02832120000[1]"/>
          <p:cNvPicPr/>
          <p:nvPr/>
        </p:nvPicPr>
        <p:blipFill>
          <a:blip r:embed="rId1"/>
          <a:stretch/>
        </p:blipFill>
        <p:spPr>
          <a:xfrm>
            <a:off x="533520" y="1600200"/>
            <a:ext cx="4343400" cy="4249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4"/>
          <p:cNvSpPr/>
          <p:nvPr/>
        </p:nvSpPr>
        <p:spPr>
          <a:xfrm>
            <a:off x="7696080" y="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recognize and capitalize the names of holiday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25" descr="la27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4"/>
          <p:cNvSpPr/>
          <p:nvPr/>
        </p:nvSpPr>
        <p:spPr>
          <a:xfrm>
            <a:off x="0" y="0"/>
            <a:ext cx="91440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In January we celebrate _____ and 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We celebrate Valentine’s Day and __________ in Februa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The first day of April is called _____________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At the end of May, we celebrate _____________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nstantia"/>
              </a:rPr>
              <a:t>Our country’s birthday is called the ___________________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4"/>
          <p:cNvSpPr/>
          <p:nvPr/>
        </p:nvSpPr>
        <p:spPr>
          <a:xfrm>
            <a:off x="0" y="0"/>
            <a:ext cx="914400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I sent valentines on valentine’s da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We give thanks on thanksgiving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We went to the park on the fourth of jul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nstantia"/>
              </a:rPr>
              <a:t>The third Monday in February is president’s day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la28"/>
          <p:cNvPicPr/>
          <p:nvPr/>
        </p:nvPicPr>
        <p:blipFill>
          <a:blip r:embed="rId1"/>
          <a:stretch/>
        </p:blipFill>
        <p:spPr>
          <a:xfrm>
            <a:off x="1560600" y="0"/>
            <a:ext cx="60228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8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understand the form of e-mail messag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4617b"/>
                </a:solidFill>
                <a:uFillTx/>
                <a:latin typeface="Constantia"/>
              </a:rPr>
              <a:t>E-mail Message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Use a computer to get and send e-mai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From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your e-mail address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shows the e-mail address of the person the message is going t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nstantia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tells what the e-mail is about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 message can begin with a greeting and end with your nam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6553080" y="15228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understand the form of e-mail messa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alibri"/>
              </a:rPr>
              <a:t>Objective - To read high frequency words.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0"/>
            <a:ext cx="8153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ord Wall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ga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ee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us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kno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u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r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u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ie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re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Word Blend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124080" y="12193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03848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37339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38862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3962520" y="4648320"/>
            <a:ext cx="114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3505320" y="4648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3124080" y="4648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3200400" y="36576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29718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342900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Text Box 25"/>
          <p:cNvSpPr/>
          <p:nvPr/>
        </p:nvSpPr>
        <p:spPr>
          <a:xfrm>
            <a:off x="37339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4495680" y="5562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Word Build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8862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11480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5812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3048120" y="2438280"/>
            <a:ext cx="990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200400" y="4495680"/>
            <a:ext cx="1219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335268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42670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312408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3581280" y="55627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4419720" y="5562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Word Building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7315200" y="0"/>
            <a:ext cx="198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dd9"/>
                </a:solidFill>
                <a:latin typeface="Constantia"/>
              </a:rPr>
              <a:t>Objective: To build and blend words with /ar/ ar and other known letter-sounds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4114800" y="1219320"/>
            <a:ext cx="1295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ore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419720" y="2438280"/>
            <a:ext cx="1371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03848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429000" y="24382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4572000" y="350532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41148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505320" y="350532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3581280" y="44956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4114800" y="4495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ar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4952880" y="4495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152280" y="0"/>
            <a:ext cx="883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Objective: To use /ar/ and other known letter sounds to spell and write w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nstantia"/>
              </a:rPr>
              <a:t>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WordArt 5"/>
          <p:cNvSpPr txBox="1"/>
          <p:nvPr/>
        </p:nvSpPr>
        <p:spPr>
          <a:xfrm>
            <a:off x="609480" y="838080"/>
            <a:ext cx="8229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uild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304920" y="1155600"/>
            <a:ext cx="83055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far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far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ar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a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nstantia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0" y="1981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d a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0" y="2666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ake away th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0" y="3352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ang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th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0" y="40384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d a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ange the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hat word do we have now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ar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47559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 rot="1437600">
            <a:off x="6021000" y="4410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d the underlined words!!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7620120" y="0"/>
            <a:ext cx="1523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dd9"/>
                </a:solidFill>
                <a:latin typeface="Constantia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7" descr="r27"/>
          <p:cNvPicPr/>
          <p:nvPr/>
        </p:nvPicPr>
        <p:blipFill>
          <a:blip r:embed="rId1"/>
          <a:stretch/>
        </p:blipFill>
        <p:spPr>
          <a:xfrm>
            <a:off x="205272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8"/>
          <p:cNvSpPr/>
          <p:nvPr/>
        </p:nvSpPr>
        <p:spPr>
          <a:xfrm rot="20724600">
            <a:off x="0" y="7617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dfd0"/>
                </a:solidFill>
                <a:latin typeface="Constantia"/>
              </a:rPr>
              <a:t>Underline the </a:t>
            </a:r>
            <a:r>
              <a:rPr b="1" i="1" lang="en-US" sz="2000" spc="-1" strike="noStrike">
                <a:solidFill>
                  <a:srgbClr val="85dfd0"/>
                </a:solidFill>
                <a:latin typeface="Constantia"/>
              </a:rPr>
              <a:t>ar </a:t>
            </a:r>
            <a:r>
              <a:rPr b="1" lang="en-US" sz="2000" spc="-1" strike="noStrike">
                <a:solidFill>
                  <a:srgbClr val="85dfd0"/>
                </a:solidFill>
                <a:latin typeface="Constantia"/>
              </a:rPr>
              <a:t>words!!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2:52:44Z</dcterms:created>
  <dc:creator>lara colleen mangham</dc:creator>
  <dc:description/>
  <dc:language>en-US</dc:language>
  <cp:lastModifiedBy>lara colleen mangham</cp:lastModifiedBy>
  <dcterms:modified xsi:type="dcterms:W3CDTF">2010-01-05T03:04:41Z</dcterms:modified>
  <cp:revision>2</cp:revision>
  <dc:subject/>
  <dc:title>Slide 1</dc:title>
</cp:coreProperties>
</file>