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2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E683-6DDD-4ACF-8A9C-FD53BF454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BC1C-9E07-4EE5-9DF2-557BE0A8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7E4F-364A-4707-9B08-8514AD573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851-6DED-4C8F-9921-EE58A40EB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A2F-B276-44EE-BF87-E7D14745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8BF6-D071-46E6-AAC7-B47B058C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63A-3CAF-4D46-BCE0-263EA524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099E-94FF-4602-9940-5D599C2C0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3DDF-3355-4312-A8EF-301279E4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5EAB-227B-4A51-AB3B-DC66EC80C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1586-3F5B-4183-9A32-1ACD5BF03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5D60-71BD-4E1F-AE27-562BE351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845B-95CD-45FC-B59B-17FBDDF3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F323-69CC-4A9D-98BA-C807DC37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651E-669F-4D70-A7A1-D712890F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8A85-4CAF-4A7C-9994-2E94C3D05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53A1-83FB-4DD5-925B-BD837D4E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6FA-C452-40CC-9D34-EB0EBB056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ED0E-061F-4D17-A7D5-DC3423D0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040C-D523-477D-A0E2-A09B00284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B89C-8E9D-4B8A-B673-81200329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318A-46F9-4EED-B7B9-8AADE5883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4694-ED59-487E-847F-C5ADACD4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8727-8106-47BE-9533-67A6F741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3AE-2CA0-46B8-8A09-FE9387A2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448-DE2F-4826-989B-8900DFD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387-D041-417A-83D3-31F0C737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ABC-755B-42C4-A0B4-581DEAE9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51A-E0AA-4440-BC78-9CFD060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CC2-CA58-4930-8D7A-A909603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5FC-0C3B-4880-93D3-5D4EB86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5B4-405E-410C-83C5-D0636A9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390-A88B-4F5F-B52A-80EF89E9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59B-D7CE-4B3F-B055-9506E350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B55-6232-44E9-9190-64D1149F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7A1-B790-44B1-B645-88DBC824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6B30-167A-4DE4-B7A9-7D5539A57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tober 2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esson 8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>
            <a:off x="838080" y="457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haroni"/>
                <a:ea typeface="Aharoni"/>
              </a:rPr>
              <a:t>Let’s go to Harcourt online for our focus sk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:\Program Files\Microsoft Office\MEDIA\CAGCAT10\j0195384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981080"/>
            <a:ext cx="2730600" cy="2786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819520" y="480060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ach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You may have to minimize slideshow to view the website which is ope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Janice\AppData\Local\Microsoft\Windows\Temporary Internet Files\Content.IE5\CVW5V2AD\MPj04387350000[1].jpg"/>
          <p:cNvPicPr/>
          <p:nvPr/>
        </p:nvPicPr>
        <p:blipFill>
          <a:blip r:embed="rId1"/>
          <a:stretch/>
        </p:blipFill>
        <p:spPr>
          <a:xfrm>
            <a:off x="455436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380880" y="304920"/>
            <a:ext cx="37339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low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are important in the story we will read at my table today.  Here’s some other words you need to know before the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</a:rPr>
              <a:t>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mic Sans MS"/>
              </a:rPr>
              <a:t>M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00"/>
                </a:solidFill>
                <a:latin typeface="Comic Sans MS"/>
              </a:rPr>
              <a:t>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1219320" y="914400"/>
            <a:ext cx="685800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219320" y="2895480"/>
            <a:ext cx="693396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1295280" y="5105520"/>
            <a:ext cx="685800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724280" y="25146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724280" y="46483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447920" y="52578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371600" y="312408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Mid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au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aud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554880" y="214200"/>
            <a:ext cx="235728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pplauded for someone, you clapped your hands to show you liked what they di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MMAG00373_0000[1]"/>
          <p:cNvPicPr/>
          <p:nvPr/>
        </p:nvPicPr>
        <p:blipFill>
          <a:blip r:embed="rId1"/>
          <a:stretch/>
        </p:blipFill>
        <p:spPr>
          <a:xfrm>
            <a:off x="1357200" y="2517840"/>
            <a:ext cx="2548080" cy="2450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554040" y="64296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734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are chatty, you really like to ta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att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Pj03961380000[1]"/>
          <p:cNvPicPr/>
          <p:nvPr/>
        </p:nvPicPr>
        <p:blipFill>
          <a:blip r:embed="rId1"/>
          <a:stretch/>
        </p:blipFill>
        <p:spPr>
          <a:xfrm>
            <a:off x="0" y="2036880"/>
            <a:ext cx="4573440" cy="30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gather things, you bring them together in on plac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2589120" y="0"/>
            <a:ext cx="35910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751120" y="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ath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Pj04383260000[1]"/>
          <p:cNvPicPr/>
          <p:nvPr/>
        </p:nvPicPr>
        <p:blipFill>
          <a:blip r:embed="rId1"/>
          <a:stretch/>
        </p:blipFill>
        <p:spPr>
          <a:xfrm>
            <a:off x="285840" y="22510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9480" y="16002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haroni"/>
                <a:ea typeface="Aharoni"/>
              </a:rPr>
              <a:t>A noun names a person or a plac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858000" y="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dad likes to run.  My mom lik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, too.  My dad runs up the hill. 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m runs down the hill.  My dad j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t the pond.  My mom jogs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nk.  At last my mom and dad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057400" y="152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47920" y="4191120"/>
          <a:ext cx="6095880" cy="23112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haroni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haroni"/>
                        </a:rPr>
                        <a:t>Pl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ould you plant in a gar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ould like to plant ________ seeds because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48720" y="0"/>
            <a:ext cx="1295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said “hello” to the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ike to go to the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ntences ask for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often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y begin with a capital letter and end with a question mar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writing effective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kind of questions do you think of when you see this picture.  Turn to your Turn-and-Talk partner.  Ask your partner a question about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Janice\AppData\Local\Microsoft\Windows\Temporary Internet Files\Content.IE5\R2EJNNOR\MPj04308820000[1].jpg"/>
          <p:cNvPicPr/>
          <p:nvPr/>
        </p:nvPicPr>
        <p:blipFill>
          <a:blip r:embed="rId1"/>
          <a:stretch/>
        </p:blipFill>
        <p:spPr>
          <a:xfrm>
            <a:off x="4495680" y="1295280"/>
            <a:ext cx="4451400" cy="5332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315200" y="0"/>
            <a:ext cx="1828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ontent Placeholder 6" descr="monarch.jpg"/>
          <p:cNvPicPr/>
          <p:nvPr/>
        </p:nvPicPr>
        <p:blipFill>
          <a:blip r:embed="rId1"/>
          <a:stretch/>
        </p:blipFill>
        <p:spPr>
          <a:xfrm>
            <a:off x="228600" y="304920"/>
            <a:ext cx="5715000" cy="4276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7"/>
          <p:cNvSpPr/>
          <p:nvPr/>
        </p:nvSpPr>
        <p:spPr>
          <a:xfrm>
            <a:off x="1219320" y="4800600"/>
            <a:ext cx="678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nk of a question you can write about this picture.  Go to your seat when your name/table is called and write one question that  someone might ask about this picture.  Remember to start your question with a capital letter and end your question with a question m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Aloud –             “Tomm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AN01320_0000[1]"/>
          <p:cNvPicPr/>
          <p:nvPr/>
        </p:nvPicPr>
        <p:blipFill>
          <a:blip r:embed="rId1"/>
          <a:stretch/>
        </p:blipFill>
        <p:spPr>
          <a:xfrm>
            <a:off x="2057400" y="3124080"/>
            <a:ext cx="4952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860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Sing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0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334120" y="0"/>
            <a:ext cx="1828800" cy="140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C:\Users\Janice\AppData\Local\Microsoft\Windows\Temporary Internet Files\Content.IE5\AETH7CGB\MCj04244600000[1].wmf"/>
          <p:cNvPicPr/>
          <p:nvPr/>
        </p:nvPicPr>
        <p:blipFill>
          <a:blip r:embed="rId2"/>
          <a:stretch/>
        </p:blipFill>
        <p:spPr>
          <a:xfrm>
            <a:off x="304920" y="0"/>
            <a:ext cx="1828800" cy="1403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1"/>
          <p:cNvSpPr/>
          <p:nvPr/>
        </p:nvSpPr>
        <p:spPr>
          <a:xfrm>
            <a:off x="304920" y="205740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  e   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   o    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  e    th              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  e    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i    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u   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   a   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    i    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4419720" y="1600200"/>
            <a:ext cx="4343400" cy="11912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 am learning new words every d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ending sounds in a new wa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can take the sounds lik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     i     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y them together and I’ve got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i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752480" y="7621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g to the tune of “I’m a Little Tea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Blen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ord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2670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30481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5562720" y="9144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562720" y="25909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5638680" y="38862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5638680" y="51814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Words i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Will you hit this ball or that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omic Sans MS"/>
              </a:rPr>
              <a:t>Ten kids are on the pa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He will jog with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omic Sans MS"/>
              </a:rPr>
              <a:t>Can you get hats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 slid, and then I fe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304920" y="1676520"/>
            <a:ext cx="8534160" cy="37497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dazzling yellow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n burst off the paper and seemed to warm every corner.  Bright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800" spc="-1" strike="noStrike">
                <a:solidFill>
                  <a:srgbClr val="7575d1"/>
                </a:solidFill>
                <a:latin typeface="Comic Sans MS"/>
              </a:rPr>
              <a:t>blu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and</a:t>
            </a:r>
            <a:r>
              <a:rPr b="0" lang="en-US" sz="4800" spc="-1" strike="noStrike">
                <a:solidFill>
                  <a:srgbClr val="800080"/>
                </a:solidFill>
                <a:latin typeface="Comic Sans MS"/>
              </a:rPr>
              <a:t> purple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lowers danced in the ligh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23880" y="4572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Let’s Talk Abou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781680" y="1522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3a3e0"/>
                </a:solidFill>
                <a:latin typeface="Arial"/>
              </a:rPr>
              <a:t>Objective:  To identify story det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0-21T02:39:59Z</dcterms:modified>
  <cp:revision>90</cp:revision>
  <dc:subject/>
  <dc:title>Slide 1</dc:title>
</cp:coreProperties>
</file>