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3C4B-9F6D-4CD8-92E5-3712339D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BB7-4EDA-46AC-A970-7C06DA3B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46A-3E53-4793-9A6F-623F4BEF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B4C-7F12-4E4B-8DF2-3E107146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DA7A-7931-4D59-8981-3D89613F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928-336B-4C88-94A6-3FB0654B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62F-CE41-46EC-A66C-84E77E35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C765-121C-477B-ABDE-D4038DD6A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C70B-23CE-47FA-B5D7-BB0FA4C4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814B-A2EA-496A-B2ED-482C4263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574-2C8E-48AA-ACCD-FC6462EA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623F-5E42-4ECA-998C-2EB7F8C7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8586-CDD7-42FB-9161-CA0D3705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49BC-074F-45F8-BDB4-7402A166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545-B4BA-446B-9663-50E02B87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06A-E5C8-482C-B6B6-A7E6D61A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A38-3862-492D-9BEC-76F81FB2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124-3F92-447C-B2D5-9CF9B905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661D-2580-4B4F-B726-55FA77ED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E666-9D4F-4582-9C3C-F44852AE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2FE-CE64-4B49-BDC1-576873EF6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BC1D-F8DA-4504-99A3-928BD98A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E310-0A97-4891-AF90-55B8C8C1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DBCF-B53F-422B-A01F-248395F8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5A6-DE1C-4229-8EBF-3F59F878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AAE-B94C-4C2C-A99E-B466304C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434-B86F-4CDD-9B02-A4F3661F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C38-C472-459F-9364-51989124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A02-3B12-4142-9741-1B37C87B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02C-1720-40AD-93B2-10EF519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3E6-45B8-4AD1-9E81-8BECCC5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535-A184-4AC1-BC05-5E99C74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C70-DDD1-4CB3-A22F-EB4D3DBE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8BF-F26B-4E3F-AFD3-E524417D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161-9E5F-4796-A8E3-11E1B0D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FA8-BCED-4ED1-89D1-A1798BC2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3AA5-725F-48B8-B2C4-E58083BC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tober 2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esson 8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838080" y="457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haroni"/>
                <a:ea typeface="Aharoni"/>
              </a:rPr>
              <a:t>Let’s go to Harcourt online for our focus s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Program Files\Microsoft Office\MEDIA\CAGCAT10\j0195384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81080"/>
            <a:ext cx="273060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819520" y="48006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ach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 may have to minimize slideshow to view the website which is ope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Janice\AppData\Local\Microsoft\Windows\Temporary Internet Files\Content.IE5\CVW5V2AD\MPj04387350000[1].jpg"/>
          <p:cNvPicPr/>
          <p:nvPr/>
        </p:nvPicPr>
        <p:blipFill>
          <a:blip r:embed="rId1"/>
          <a:stretch/>
        </p:blipFill>
        <p:spPr>
          <a:xfrm>
            <a:off x="455436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80880" y="304920"/>
            <a:ext cx="3733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low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re important in the story we will read at my table today.  Here’s some other words you need to know before the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</a:rPr>
              <a:t>M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Comic Sans MS"/>
              </a:rPr>
              <a:t>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MMAG00373_0000[1]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734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3961380000[1]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Pj04383260000[1]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9480" y="1600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A noun names a person or a pla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858000" y="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ad likes to run.  My mom lik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, too.  My dad runs up the hill. 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runs down the hill.  My dad j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 the pond.  My mom jogs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.  At last my mom and dad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52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4191120"/>
          <a:ext cx="6095880" cy="2311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you plant in a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uld like to plant ________ seeds because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aid “hello” to th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to go to the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 of questions do you think of when you see this picture.  Turn to your Turn-and-Talk partner.  Ask your partner a question about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Janice\AppData\Local\Microsoft\Windows\Temporary Internet Files\Content.IE5\R2EJNNOR\MPj04308820000[1]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51400" cy="5332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315200" y="0"/>
            <a:ext cx="1828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6" descr="monarch.jpg"/>
          <p:cNvPicPr/>
          <p:nvPr/>
        </p:nvPicPr>
        <p:blipFill>
          <a:blip r:embed="rId1"/>
          <a:stretch/>
        </p:blipFill>
        <p:spPr>
          <a:xfrm>
            <a:off x="228600" y="304920"/>
            <a:ext cx="5715000" cy="4276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219320" y="480060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k of a question you can write about this picture.  Go to your seat when your name/table is called and write one question that  someone might ask about this picture.  Remember to start your question with a capital letter and end your question with a question 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Tomm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AN01320_0000[1]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ing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334120" y="0"/>
            <a:ext cx="182880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C:\Users\Janice\AppData\Local\Microsoft\Windows\Temporary Internet Files\Content.IE5\AETH7CGB\MCj04244600000[1].wmf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04920" y="20574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  e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   o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th              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u  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   a   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4419720" y="1600200"/>
            <a:ext cx="4343400" cy="1191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 am learning new words every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nding sounds in a new 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can take the sounds lik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     i     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y them together and I’ve go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i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752480" y="7621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 to the tune of “I’m a Little Tea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Blen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ord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5627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562720" y="25909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5638680" y="38862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5638680" y="51814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Will you hit this ball or that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omic Sans MS"/>
              </a:rPr>
              <a:t>Ten kids are on the p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He will jog with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an you get hats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lid, and then I f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304920" y="1676520"/>
            <a:ext cx="8534160" cy="3749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dazzling yellow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n burst off the paper and seemed to warm every corner.  Bright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800" spc="-1" strike="noStrike">
                <a:solidFill>
                  <a:srgbClr val="7575d1"/>
                </a:solidFill>
                <a:latin typeface="Comic Sans MS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and</a:t>
            </a: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 purple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owers danced in the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23880" y="457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Let’s Talk Ab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781680" y="1522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0-21T02:39:59Z</dcterms:modified>
  <cp:revision>90</cp:revision>
  <dc:subject/>
  <dc:title>Slide 1</dc:title>
</cp:coreProperties>
</file>