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2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488D-0641-49FC-ACA1-DB42F6376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9368-C061-487A-9C65-FDADCD0B7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FA94-F580-4DC5-8450-B6E53D7BC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1628-7335-4BB5-B889-A519F6BF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CFFF-5293-41BF-8CB5-251E0F6B6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0DA4-7E98-439B-88B4-E59135E1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4AE2-289C-4709-8CCE-3A83BE84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D95D-B6C3-4EEC-AA39-A65F94A7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EC2-A5D0-4CA2-B947-A6BC8A76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AC43-947E-4554-A625-20956AEE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2C35-B1F2-4ACF-BD8C-3C6DC768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E7C9-BD63-45FE-83DA-ED9B0B7F2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0578-B353-4016-9CF4-18AE98C5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907A-BADA-4B30-A361-B9C1D087F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6ABC-256B-47D1-9423-99901BD2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B433-C2AC-4189-B76C-870CFE9D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B061-6DCE-40F4-A09A-E5C600AE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872E-2771-40FB-AA66-ACCA3B59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BC3-23BA-4862-A24A-45DB51451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A7EE-A876-47C0-A118-C3976260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5D55-F716-4441-A329-2E933E8C8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ABC7-56E7-4C15-9A8C-254D6E92B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B2B0-D5E6-4875-96EE-FEC39700F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94E3-6FA4-45EB-BD69-97F086BF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AA8-A531-4EB8-8E42-3449CEBF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DD4-ACAD-4384-94A6-F2165B1B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B9E-F21A-43A8-BE99-4EF86A80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283-FD99-4C72-A36D-AC40BAE1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DB0-1E34-4013-B82B-74620874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85A-2A3E-4D07-8471-2FE7716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022-B55E-4C7E-B6FC-55DEB61E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DA6-6F39-4C7C-9A46-BA34FA9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ED5-B60C-494F-8FCE-60272AFE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96D-ADF6-4729-AF50-94CA0847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D5C-E392-4464-B690-16B7F9DE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4A9-DB3F-406C-B1E7-ADD9B951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0CDE-1230-41B4-83F2-87FCA70B5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ctober 2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esson 8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838080" y="4572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haroni"/>
                <a:ea typeface="Aharoni"/>
              </a:rPr>
              <a:t>Let’s go to Harcourt online for our focus sk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Program Files\Microsoft Office\MEDIA\CAGCAT10\j0195384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981080"/>
            <a:ext cx="2730600" cy="2786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2819520" y="480060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ach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u may have to minimize slideshow to view the website which is ope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Janice\AppData\Local\Microsoft\Windows\Temporary Internet Files\Content.IE5\CVW5V2AD\MPj04387350000[1].jpg"/>
          <p:cNvPicPr/>
          <p:nvPr/>
        </p:nvPicPr>
        <p:blipFill>
          <a:blip r:embed="rId1"/>
          <a:stretch/>
        </p:blipFill>
        <p:spPr>
          <a:xfrm>
            <a:off x="455436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80880" y="304920"/>
            <a:ext cx="3733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low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re important in the story we will read at my table today.  Here’s some other words you need to know before the 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</a:rPr>
              <a:t>M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Comic Sans MS"/>
              </a:rPr>
              <a:t>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219320" y="914400"/>
            <a:ext cx="685800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219320" y="2895480"/>
            <a:ext cx="693396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295280" y="5105520"/>
            <a:ext cx="685800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724280" y="25146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724280" y="46483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447920" y="52578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1371600" y="312408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id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au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au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554880" y="214200"/>
            <a:ext cx="235728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pplauded for someone, you clapped your hands to show you liked what they di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MMAG00373_0000[1]"/>
          <p:cNvPicPr/>
          <p:nvPr/>
        </p:nvPicPr>
        <p:blipFill>
          <a:blip r:embed="rId1"/>
          <a:stretch/>
        </p:blipFill>
        <p:spPr>
          <a:xfrm>
            <a:off x="1357200" y="2517840"/>
            <a:ext cx="2548080" cy="2450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554040" y="64296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734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are chatty, you really like to ta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at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Pj03961380000[1]"/>
          <p:cNvPicPr/>
          <p:nvPr/>
        </p:nvPicPr>
        <p:blipFill>
          <a:blip r:embed="rId1"/>
          <a:stretch/>
        </p:blipFill>
        <p:spPr>
          <a:xfrm>
            <a:off x="0" y="2036880"/>
            <a:ext cx="4573440" cy="303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gather things, you bring them together in on plac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2589120" y="0"/>
            <a:ext cx="35910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751120" y="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ath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MPj04383260000[1]"/>
          <p:cNvPicPr/>
          <p:nvPr/>
        </p:nvPicPr>
        <p:blipFill>
          <a:blip r:embed="rId1"/>
          <a:stretch/>
        </p:blipFill>
        <p:spPr>
          <a:xfrm>
            <a:off x="285840" y="22510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09480" y="16002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A noun names a person or a plac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6858000" y="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identify and read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dad likes to run.  My mom lik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, too.  My dad runs up the hill. 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m runs down the hill.  My dad j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 the pond.  My mom jogs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nk.  At last my mom and dad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57400" y="152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47920" y="4191120"/>
          <a:ext cx="6095880" cy="23112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haroni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haroni"/>
                        </a:rPr>
                        <a:t>Pla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ould you plant in a gar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ould like to plant ________ seeds because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identify and read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said “hello” to the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ike to go to the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ntences ask for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often begin with words lik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begin with a capital letter and end with a question mar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writing effective ques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kind of questions do you think of when you see this picture.  Turn to your Turn-and-Talk partner.  Ask your partner a question about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Users\Janice\AppData\Local\Microsoft\Windows\Temporary Internet Files\Content.IE5\R2EJNNOR\MPj04308820000[1].jpg"/>
          <p:cNvPicPr/>
          <p:nvPr/>
        </p:nvPicPr>
        <p:blipFill>
          <a:blip r:embed="rId1"/>
          <a:stretch/>
        </p:blipFill>
        <p:spPr>
          <a:xfrm>
            <a:off x="4495680" y="1295280"/>
            <a:ext cx="4451400" cy="5332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7315200" y="0"/>
            <a:ext cx="1828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6" descr="monarch.jpg"/>
          <p:cNvPicPr/>
          <p:nvPr/>
        </p:nvPicPr>
        <p:blipFill>
          <a:blip r:embed="rId1"/>
          <a:stretch/>
        </p:blipFill>
        <p:spPr>
          <a:xfrm>
            <a:off x="228600" y="304920"/>
            <a:ext cx="5715000" cy="4276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1219320" y="4800600"/>
            <a:ext cx="678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nk of a question you can write about this picture.  Go to your seat when your name/table is called and write one question that  someone might ask about this picture.  Remember to start your question with a capital letter and end your question with a question 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Aloud –             “Tomm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AN01320_0000[1]"/>
          <p:cNvPicPr/>
          <p:nvPr/>
        </p:nvPicPr>
        <p:blipFill>
          <a:blip r:embed="rId1"/>
          <a:stretch/>
        </p:blipFill>
        <p:spPr>
          <a:xfrm>
            <a:off x="2057400" y="3124080"/>
            <a:ext cx="4952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860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Sing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C:\Users\Janice\AppData\Local\Microsoft\Windows\Temporary Internet Files\Content.IE5\AETH7CGB\MCj04244600000[1].wmf"/>
          <p:cNvPicPr/>
          <p:nvPr/>
        </p:nvPicPr>
        <p:blipFill>
          <a:blip r:embed="rId1"/>
          <a:stretch/>
        </p:blipFill>
        <p:spPr>
          <a:xfrm>
            <a:off x="5334120" y="0"/>
            <a:ext cx="182880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C:\Users\Janice\AppData\Local\Microsoft\Windows\Temporary Internet Files\Content.IE5\AETH7CGB\MCj04244600000[1].wmf"/>
          <p:cNvPicPr/>
          <p:nvPr/>
        </p:nvPicPr>
        <p:blipFill>
          <a:blip r:embed="rId2"/>
          <a:stretch/>
        </p:blipFill>
        <p:spPr>
          <a:xfrm>
            <a:off x="304920" y="0"/>
            <a:ext cx="1828800" cy="1403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304920" y="205740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  e   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   o   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  e    th              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  e    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    i   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    u   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   a   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    i    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4419720" y="1600200"/>
            <a:ext cx="4343400" cy="11912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 am learning new words every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nding sounds in a new 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can take the sounds lik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     i     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y them together and I’ve got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i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752480" y="7621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g to the tune of “I’m a Little Tea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Blend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ord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th/ t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5562720" y="9144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5562720" y="25909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5638680" y="38862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5638680" y="51814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Will you hit this ball or that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omic Sans MS"/>
              </a:rPr>
              <a:t>Ten kids are on the pa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mic Sans MS"/>
              </a:rPr>
              <a:t>He will jog with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Can you get hats fo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 slid, and then I f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304920" y="1676520"/>
            <a:ext cx="8534160" cy="3749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dazzling yellow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n burst off the paper and seemed to warm every corner.  Bright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800" spc="-1" strike="noStrike">
                <a:solidFill>
                  <a:srgbClr val="7575d1"/>
                </a:solidFill>
                <a:latin typeface="Comic Sans MS"/>
              </a:rPr>
              <a:t>blu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and</a:t>
            </a:r>
            <a:r>
              <a:rPr b="0" lang="en-US" sz="4800" spc="-1" strike="noStrike">
                <a:solidFill>
                  <a:srgbClr val="800080"/>
                </a:solidFill>
                <a:latin typeface="Comic Sans MS"/>
              </a:rPr>
              <a:t> purple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lowers danced in the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23880" y="4572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Let’s Talk Abou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781680" y="1522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3a3e0"/>
                </a:solidFill>
                <a:latin typeface="Arial"/>
              </a:rPr>
              <a:t>Objective:  To identify story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0-21T02:39:59Z</dcterms:modified>
  <cp:revision>90</cp:revision>
  <dc:subject/>
  <dc:title>Slide 1</dc:title>
</cp:coreProperties>
</file>