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DF2-9922-4816-A3B5-E070CB13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CF3-8684-4983-9C19-321EF623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8D9-C885-4B60-B0C9-C42FBA60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8C2-6993-4000-95D4-8140187D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C11-A2D4-442D-AF3F-D40892D0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1CB-2C11-4C1E-9303-76DFBAD2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45D-A0E8-4757-9ECC-ADA04468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334-F3F4-4D54-9960-DA824FF6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494-6B7E-46EE-917B-4506221C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584-3361-427B-B4C2-37F1BD62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4E5-94D1-439C-9114-DC145CD5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8D8-52BB-4773-8C96-B2F72CD6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D47E-2969-4784-BC4B-58C7660CC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5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33960" y="228240"/>
            <a:ext cx="2057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ight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1160" y="152280"/>
            <a:ext cx="1523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286000"/>
            <a:ext cx="5486400" cy="3832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05120" y="114300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05360" y="274320"/>
            <a:ext cx="1981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s in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r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ig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for a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ing for a walk is so much fu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look at the lovely tre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don’t hurry.  We don’t ru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watch for birds and watch for be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67480" y="152280"/>
            <a:ext cx="1447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 is so much f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look at 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on’t 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atch 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7640" y="151920"/>
            <a:ext cx="2133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  To understand that telling sentences tell about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1784520" cy="3405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19520" y="10666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see on the scr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62920" y="152280"/>
            <a:ext cx="1752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  To understand that telling sentences tell about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nk about do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y do you think dogs ba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dog might bark because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95680" y="2133720"/>
            <a:ext cx="38102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My Do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nemic Awareness – Middle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748520"/>
            <a:ext cx="89154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short o? Where is short o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I am. Here I am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in a hot pot, rocky top, and stop clock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- o - o    o - o - 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62520" y="762120"/>
            <a:ext cx="12380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7640" y="151920"/>
            <a:ext cx="2057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sound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Vowel /o/ and Sp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 o 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 o 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 o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43800" y="151920"/>
            <a:ext cx="1371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lend sounds into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Vowel /o/ and Sp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 o 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 o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 o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95720" y="228240"/>
            <a:ext cx="1219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lend sounds into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ead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 got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c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t si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d will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ic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e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cat c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ap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ox has a bi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1320" y="-360"/>
            <a:ext cx="2133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s in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5238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4240" y="1332000"/>
            <a:ext cx="352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2438280"/>
            <a:ext cx="3124080" cy="19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along as I read some pages from your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09-23T02:52:18Z</dcterms:modified>
  <cp:revision>8</cp:revision>
  <dc:subject/>
  <dc:title>Slide 1</dc:title>
</cp:coreProperties>
</file>