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E45-8BE1-47EE-9988-5DE7C5DA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380-6F57-406A-93B1-C9FFCE4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EB4-E973-488F-83A0-3279D982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27E-ECFD-46A7-BEAB-A8A887A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DC7-75F5-4150-AB98-ADA80C25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29A-FA17-40B6-9969-63979640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C1E0-15C0-436D-9C48-3740F403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D90-34F3-4700-BCD0-13BA6A0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FDF-9299-4EDC-897B-4DAA19E2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7BE-0080-4CE6-BF02-EF04BE7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3C4-0507-4506-836C-578870E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A27-49B5-41E0-ABDF-3782069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1895-6FAE-4C84-8605-6BA185885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ontent.thinkcentral.com/content/hsp/reading/storytown/na/gr1/se_9780153597732_/grade1/shell.html?grade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ptember 2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5,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33960" y="228240"/>
            <a:ext cx="2057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ght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1160" y="152280"/>
            <a:ext cx="1523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86000"/>
            <a:ext cx="5486400" cy="383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05120" y="1143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o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05360" y="274320"/>
            <a:ext cx="1981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view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r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gor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447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ing for a walk is so much f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look at the lovely tr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don’t hurry.  We don’t r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atch for birds and watch for be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67480" y="152280"/>
            <a:ext cx="1447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 is so much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look at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don’t 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atch 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7640" y="151920"/>
            <a:ext cx="2133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1784520" cy="3405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19520" y="10666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see on the scr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62920" y="152280"/>
            <a:ext cx="1752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compose telling sentences.  To understand that telling sentences tell about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SENT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nk about do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y do you think dogs ba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dog might bark because 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9920" y="274320"/>
            <a:ext cx="1676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develop the ability to listen for a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4480" y="1600200"/>
            <a:ext cx="3462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95680" y="2133720"/>
            <a:ext cx="38102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Aloud –             “My Do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emic Awareness – Middle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748520"/>
            <a:ext cx="89154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short o? Where is short o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I am. Here I am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in a hot pot, rocky top, and stop clock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- o - o    o - o - 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123804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7640" y="151920"/>
            <a:ext cx="2057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 o 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 o 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43800" y="1519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o/ and Sp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 o 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 o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95720" y="228240"/>
            <a:ext cx="1219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blend sounds into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eading W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 g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si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 u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cat c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ap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o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ox has a bi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1320" y="-360"/>
            <a:ext cx="2133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identify characters in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4240" y="1332000"/>
            <a:ext cx="352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438280"/>
            <a:ext cx="31240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along as I read some pages from your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Carey Dailey</cp:lastModifiedBy>
  <dcterms:modified xsi:type="dcterms:W3CDTF">2008-09-23T02:52:18Z</dcterms:modified>
  <cp:revision>8</cp:revision>
  <dc:subject/>
  <dc:title>Slide 1</dc:title>
</cp:coreProperties>
</file>